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CA64-D510-4283-A133-4002A3354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1.wmf"/><Relationship Id="rId3" Type="http://schemas.openxmlformats.org/officeDocument/2006/relationships/slide" Target="../slides/slide7.xml"/><Relationship Id="rId4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 of requests made so far this year are Schools with SSN Request and School Requ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different Criteria used to make the request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ac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 to Evaluate (Process/Transaction/Comple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e Level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gibility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ication Flag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C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tera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’s State of Legal Residence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dent Status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990720" y="68580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8580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447920" y="4495680"/>
            <a:ext cx="419076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er the TG number that is currently sending and receiving FAFSA and ISIR correction data for your destination point. Click on Next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er the Identifier Information for the DPA who is assigned to the TG number that transmits FAFSA and ISIR correction data for your school. Click on Nex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t “Add a new FAA User” from the menu. Click on Nex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t cyc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F8E-107E-4A10-9D30-778622EC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81C-4920-477A-BDB0-BD4CE473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344-69E0-4234-9519-14C72363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1E6-2312-4C30-985B-43D19AA7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D69F-182C-44E0-B7A1-74E1882E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9500-BB57-4959-8ABE-78EFA16D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E2D6-B33E-4660-805A-67D4F22A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3397-A61C-42A4-90E3-D7EA08A5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D9DA-E822-4355-B060-B086CBA4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4908-02C7-4761-AA5B-E85A6350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11C0-B466-433D-8C22-8036EC1F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ED4-5E11-48E8-9A4F-701AAF04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734D-612F-4B07-9B8A-60CDA906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4FD3-F8E0-4C88-8E2B-E4516429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5616-C400-4F05-A9A0-384D9159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AF58-F90B-4188-B3C8-1219FBC3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2D1E-7A76-4DE2-B187-E1255A84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0DDB-949A-463B-862F-CD76B63E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5727-641C-4EEF-A910-63E705B9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C04-C476-48B5-855D-51EA3455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1C66-C6DD-401E-BB9D-7A6CD66E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BB74-C5EF-4987-9787-0C86CABD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3FA2-B19C-4A28-B915-D9387A08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CCE-ADF5-48A9-9A0C-19A020B5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532E-18C3-42C9-ADE4-3E9A8D96A6D0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" descr=""/>
          <p:cNvPicPr/>
          <p:nvPr/>
        </p:nvPicPr>
        <p:blipFill>
          <a:blip r:embed="rId2"/>
          <a:stretch/>
        </p:blipFill>
        <p:spPr>
          <a:xfrm>
            <a:off x="457200" y="428760"/>
            <a:ext cx="15177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B77A-8CB7-40F2-A20E-81259E0D13E8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 Black"/>
              </a:rPr>
              <a:t>Using FAA Access to CPS Online to Request ISIRs from the New ISIR Datamar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8765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nger K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 K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1066680"/>
            <a:ext cx="3047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Session 22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658A-8B94-43AA-A88D-46528CB4171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6880" y="274284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FAA Access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0601-B722-4F85-BCBB-A7474FEAC9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228600" y="228600"/>
          <a:ext cx="86104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104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FB2-1C0E-45AF-AD6F-2CE7C4D53A6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80880" y="228600"/>
          <a:ext cx="84582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4582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DBD-848E-44F9-87F4-A0C658517AF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04920" y="152280"/>
          <a:ext cx="853416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280"/>
                    <a:ext cx="85341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380880" y="4648320"/>
            <a:ext cx="190512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4DC-5A55-4903-BADC-7743F749034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304920" y="228600"/>
          <a:ext cx="853416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853416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102-D8D7-4812-A2ED-F1D5B97C81F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6705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EDExpress Application Processing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4-2005, EDExpress interfaces directly with FAA Access to CPS Online through an embedded brow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ing on the FAFSA Tab in EDExpress will take you to FAA Access Application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pplication and correction entry will be done in FAA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3080-F43C-40DE-B91E-07F9025EF0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99"/>
                </a:solidFill>
                <a:latin typeface="Arial Black"/>
              </a:rPr>
              <a:t>Access through EDExpress</a:t>
            </a:r>
            <a:endParaRPr b="0" lang="en-US" sz="35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74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FAA’s st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ing Embedded Browser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d data turns to asterisks for security/but upd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3364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0" name="FAASetup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6095880" cy="530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0EC0-6BEF-4EF0-8610-CCD8272072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33720" y="3808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Black"/>
              </a:rPr>
              <a:t>Automated Login Process from EDExpress Setup</a:t>
            </a: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29400" y="1828800"/>
            <a:ext cx="2209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fill with “stored” stable data from set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st Add P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4" name="FAAAccess" descr=""/>
          <p:cNvPicPr/>
          <p:nvPr/>
        </p:nvPicPr>
        <p:blipFill>
          <a:blip r:embed="rId1"/>
          <a:stretch/>
        </p:blipFill>
        <p:spPr>
          <a:xfrm>
            <a:off x="0" y="1295280"/>
            <a:ext cx="6705720" cy="5129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3880" y="4952880"/>
            <a:ext cx="121932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C82D-D9C3-4098-9A36-4FFF314EC5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666880" y="274284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ISIR Request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2BC-01A1-48D4-995A-4EF4183B80E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6520" y="3045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ISIR Reques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 in FAA Access to CPS Online allows users to request ISIRs from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inations have option to continue receiving all ISIRs automatically or receiving only the ISIRs they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IR Request will be used for Duplicate, Year to Date and Federal Data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B26-77DB-40EE-A04D-4178168A08C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AA Access to CPS On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Aid Internet Gateway Enroll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IR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and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3172-1F5B-4E51-9BF1-D528D74BDC17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ISIR Request: Main Menu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ptions available on ISIR Request men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/Edit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Request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666880" y="1143000"/>
          <a:ext cx="6477120" cy="49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143000"/>
                    <a:ext cx="647712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5715000" y="5334120"/>
            <a:ext cx="2666880" cy="7617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76BA-1DD5-43AF-9E15-65CC6851D63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ISIR Request: Selection Criteria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SN/Name ID (manually enter or provide SSN f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action number: first, last, all, specific, or greater than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igibility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teran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ification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endency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d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C r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e Range for process date, receipt date, or date comple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 of these  fie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AC9-BAF9-41C9-9057-68C419EA982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3720" y="6858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ISIR Request: Selection Criteria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80880" y="228600"/>
          <a:ext cx="8382240" cy="59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38224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13BB-8784-4742-9BBF-B2D97CB28D7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33720" y="6858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ISIR Request: Selection Criteria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228600"/>
          <a:ext cx="84582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"/>
                    <a:ext cx="84582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16C-1F73-44C9-B911-E302847899A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SIR Request: SSN File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33520" y="1219320"/>
          <a:ext cx="7848360" cy="53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7848360" cy="53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301-C3A8-431C-A5E3-D2A06E9B57C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SIR Request: Enter SSN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28600" y="1066680"/>
          <a:ext cx="82296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2296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BF7-58E0-4542-B0EB-B3C17B67BB2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SIR Request: Select School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8600" y="1219320"/>
          <a:ext cx="822960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2296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5E7B-D0EF-400D-BA3C-717E8DD8146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ISIR Request: Selection Criteria Confirmation</a:t>
            </a: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28600" y="1219320"/>
          <a:ext cx="8305920" cy="51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30592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D77D-B59C-45AA-BCC3-2128746460D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704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 Black"/>
              </a:rPr>
              <a:t>ISIR Request: Check Request Status</a:t>
            </a:r>
            <a:endParaRPr b="0" lang="en-US" sz="2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2209320"/>
            <a:ext cx="2133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209680" y="1143000"/>
          <a:ext cx="655344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143000"/>
                    <a:ext cx="655344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6934320" y="4648320"/>
            <a:ext cx="2209680" cy="5331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4572000"/>
            <a:ext cx="2210040" cy="914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07DB-6EB2-4718-88D2-91880C0B5A5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ISIR Request: Query Requiremen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es can be set 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un following the next CPS comput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 future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 must be completed before next query can be sub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query entered is displayed when user returns to ISIR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imit on number of times an ISIR is requ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6DA-A06F-40E2-8502-09D525DB198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Arial Black"/>
              </a:rPr>
              <a:t>FAA Access to CPS Online</a:t>
            </a:r>
            <a:endParaRPr b="0" lang="en-US" sz="5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4962-B7F5-45E5-8760-2537F6047DC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ISIR Request: Exampl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records for one or more school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Processing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want any ISIRs until X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plicate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649-79E4-4FC5-8F36-DD40A231137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ISIR Request: Actual Examples Requested 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with SSN Requ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opular Criteria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N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to Evaluate (Process/Transaction/Comple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 Level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0C3-FB00-497E-809B-CD1B3859ABD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ISIR Request: Query Resul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queries run, files of requested ISIRs 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 loaded to SAIG mailboxes in ISRF05OP messag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 of requested ISIRs must be retrieved within 14 calendar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8E5-BAB2-4A65-8FA6-6E4AC162465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School’s Responsibility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338D-8D62-4C58-8A44-DE4056B868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“</a:t>
            </a: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ushed” ISIR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ain ISIRs automatically “pushed” regardless of option selected by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C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 C Cod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-generated transactions (NSLDS post-screening, DHS automated secondary confirmation, reprocessing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0753-305A-429E-8638-07D4A21AE03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33720" y="380880"/>
            <a:ext cx="6705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chool Responsibiliti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e and review all of the ISIRs that are automatically pushed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ISIRs for all of the students who have enrolled at your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647-0011-4E3D-B8D0-6631AAE59AD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720" y="761760"/>
            <a:ext cx="6705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dditional Information and Resourc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2514240"/>
            <a:ext cx="7238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A Access to CPS Online UR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afsa.ed.gov/FAA/faa.htm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G Enrollment UR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sawebenroll.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84D-A244-49E6-A502-3D88F401D4AA}" type="slidenum">
              <a:t>36</a:t>
            </a:fld>
          </a:p>
        </p:txBody>
      </p:sp>
    </p:spTree>
  </p:cSld>
  <p:transition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emo Site for FAFSA on the Web and FAA Acces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For FAA’s to learn and to trai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afsademo.test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Name: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d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word: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afsa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ed in the 2004-2005 CPS Test System User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adownload.ed.gov/CPSTestSys0405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192560" y="1447920"/>
            <a:ext cx="4673520" cy="48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FD8-6258-4E11-8871-57DDD5786851}" type="slidenum">
              <a:t>37</a:t>
            </a:fld>
          </a:p>
        </p:txBody>
      </p:sp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echnical Assistanc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PS/SAIG Technical Sup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reach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1-800-330-59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x: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19-665-766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pssaig@pearso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C5D-1F9F-4112-93EB-15266799596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Questions and Commen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more information while at the con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to the PC Lab for assistance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A Access to CPS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FSA on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IG Enro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F58-D01D-4EFD-B9F7-7C46C092F069}" type="slidenum">
              <a:t>39</a:t>
            </a:fld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What is FAA Access to CPS Online?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system which allows FAAs to ac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 Inqui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tch Status (2003-04 onl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ature Hold File Requ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/Correction E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tore A Saved Applica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IR Requ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: 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fafsa.ed.gov/faa/faa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89FE-1617-49DE-BCF5-EBE760DA664B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Student Aid Internet Gateway Enrollmen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EF8A-0692-4E76-A45A-65BDA8A4EB1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Does the DPA Enroll FAA Users?</a:t>
            </a: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e Student Aid Internet Gateway On-line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sawebenroll.ed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Enroll for FAA Online Ac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09880" y="1600200"/>
          <a:ext cx="449604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600200"/>
                    <a:ext cx="449604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0AAA-9703-46CA-ADF9-F22012047A2D}" type="slidenum">
              <a:t>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Enrolling New FAA User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TG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DPA’s SSN and D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“Add new FAA Us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o mirror DPA access or customiz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47E-559D-4E15-B7E9-A1EEEAB45D4D}" type="slidenum">
              <a:t>7</a:t>
            </a:fld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228600" y="304920"/>
          <a:ext cx="8610480" cy="59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610480" cy="59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2971800" y="1752480"/>
            <a:ext cx="3200400" cy="38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249240" y="1748880"/>
            <a:ext cx="760320" cy="23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 rot="975600">
            <a:off x="6629040" y="3200040"/>
            <a:ext cx="3999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New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 rot="975600">
            <a:off x="2057040" y="3352320"/>
            <a:ext cx="3999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New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B7B-8C61-4297-842E-002532103FC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ISIR Request: Enrollmen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2438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R delivery method option provided on SAIG Enrollment Web under the CPS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is automatic daily receipt (like current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A may change option at an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who select automatic daily receipt can also request ISIRs at an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666880" y="5029200"/>
          <a:ext cx="63248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5029200"/>
                    <a:ext cx="63248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7086600" y="5715000"/>
            <a:ext cx="190512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666880" y="990720"/>
          <a:ext cx="6324840" cy="395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990720"/>
                    <a:ext cx="632484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632-353C-4F15-AE90-F788523A096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14:15:08Z</dcterms:created>
  <dc:creator>Paul.Hill.Jr</dc:creator>
  <dc:description/>
  <dc:language>en-US</dc:language>
  <cp:lastModifiedBy>jennifer.do</cp:lastModifiedBy>
  <dcterms:modified xsi:type="dcterms:W3CDTF">2004-04-05T15:38:02Z</dcterms:modified>
  <cp:revision>1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07959076</vt:r8>
  </property>
  <property fmtid="{D5CDD505-2E9C-101B-9397-08002B2CF9AE}" pid="3" name="_AuthorEmail">
    <vt:lpwstr>Eric.Greving@pearson.com</vt:lpwstr>
  </property>
  <property fmtid="{D5CDD505-2E9C-101B-9397-08002B2CF9AE}" pid="4" name="_AuthorEmailDisplayName">
    <vt:lpwstr>Greving, Eric</vt:lpwstr>
  </property>
  <property fmtid="{D5CDD505-2E9C-101B-9397-08002B2CF9AE}" pid="5" name="_EmailSubject">
    <vt:lpwstr>Update to Session 22</vt:lpwstr>
  </property>
</Properties>
</file>