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C2C4E-01EE-4CFF-8793-DADC8A863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C96A-7F3B-4024-A8DC-5DC6007BC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03C4E-CC99-4ADD-9187-93D47E1CF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E49AA-CC64-4BB6-B754-58DECFEFF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AF11-6C13-4406-80A5-A3E07D15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3E46E-1C62-4825-81F2-AAE2953D9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F354-9B1D-4690-8697-E0DDC7BA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67A1-4E12-4A9B-8B6D-5BD9FEED5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CC31-F5C9-40AE-9DDA-A2116D00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7EC8-448F-4EE7-8FD8-C326BC58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8B4D8-026A-40EB-88A9-2867F393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67DC-3C55-4CE4-A138-1C01A68D2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9CEF-94C9-4E9D-9067-40B6701B9F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Spring%20Conference" descr=""/>
          <p:cNvPicPr/>
          <p:nvPr/>
        </p:nvPicPr>
        <p:blipFill>
          <a:blip r:embed="rId1"/>
          <a:stretch/>
        </p:blipFill>
        <p:spPr>
          <a:xfrm>
            <a:off x="1447920" y="1676520"/>
            <a:ext cx="6933960" cy="3741480"/>
          </a:xfrm>
          <a:prstGeom prst="rect">
            <a:avLst/>
          </a:prstGeom>
          <a:ln w="0">
            <a:noFill/>
          </a:ln>
        </p:spPr>
      </p:pic>
      <p:sp>
        <p:nvSpPr>
          <p:cNvPr id="47"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consequences</a:t>
            </a:r>
            <a:endParaRPr b="0" lang="en-US" sz="4400" spc="-1" strike="noStrike">
              <a:solidFill>
                <a:srgbClr val="000000"/>
              </a:solidFill>
              <a:latin typeface="Arial"/>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licant fails to provide the requested verification documentation by the deadlin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itution may not disburse any additional Title IV aid or allow FWS employmen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ocumentation is provided after the institutional deadline, the institution may chose to accept the documentation and if otherwise eligible, award Title IV a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 if the verified SAR/ISIR is submitted/received after the institutional deadline, but within the additional time established by the Secretary, Pell </a:t>
            </a:r>
            <a:r>
              <a:rPr b="1" lang="en-US" sz="2000" spc="-1" strike="noStrike">
                <a:solidFill>
                  <a:srgbClr val="000000"/>
                </a:solidFill>
                <a:latin typeface="Arial"/>
              </a:rPr>
              <a:t>must</a:t>
            </a:r>
            <a:r>
              <a:rPr b="0" lang="en-US" sz="2000" spc="-1" strike="noStrike">
                <a:solidFill>
                  <a:srgbClr val="000000"/>
                </a:solidFill>
                <a:latin typeface="Arial"/>
              </a:rPr>
              <a:t> be paid on the </a:t>
            </a:r>
            <a:r>
              <a:rPr b="0" lang="en-US" sz="2000" spc="-1" strike="noStrike" u="sng">
                <a:solidFill>
                  <a:srgbClr val="000000"/>
                </a:solidFill>
                <a:uFillTx/>
                <a:latin typeface="Arial"/>
              </a:rPr>
              <a:t>HIGHER of the two EFC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35BE851-CFCC-42D6-8CE2-B54B5A9A8B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consequences</a:t>
            </a:r>
            <a:endParaRPr b="0" lang="en-US" sz="4400" spc="-1" strike="noStrike">
              <a:solidFill>
                <a:srgbClr val="000000"/>
              </a:solidFill>
              <a:latin typeface="Arial"/>
            </a:endParaRPr>
          </a:p>
        </p:txBody>
      </p:sp>
      <p:sp>
        <p:nvSpPr>
          <p:cNvPr id="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for Pell - if the student does not provide the documentation and if required, a valid SAR/ISIR within the addt’l time period (the earlier of 90 days from the LDA or 9/2/03)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is forfei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reviously paid Pell (for the applicable period)</a:t>
            </a:r>
            <a:r>
              <a:rPr b="1" lang="en-US" sz="2800" spc="-1" strike="noStrike">
                <a:solidFill>
                  <a:srgbClr val="000000"/>
                </a:solidFill>
                <a:latin typeface="Arial"/>
              </a:rPr>
              <a:t> MUST </a:t>
            </a:r>
            <a:r>
              <a:rPr b="0" lang="en-US" sz="2800" spc="-1" strike="noStrike">
                <a:solidFill>
                  <a:srgbClr val="000000"/>
                </a:solidFill>
                <a:latin typeface="Arial"/>
              </a:rPr>
              <a:t>be return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B3CFDBE-7A62-44AF-AEA6-996205A0E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s recovery</a:t>
            </a:r>
            <a:endParaRPr b="0" lang="en-US" sz="4400" spc="-1" strike="noStrike">
              <a:solidFill>
                <a:srgbClr val="000000"/>
              </a:solidFill>
              <a:latin typeface="Arial"/>
            </a:endParaRPr>
          </a:p>
        </p:txBody>
      </p:sp>
      <p:sp>
        <p:nvSpPr>
          <p:cNvPr id="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s a result of an interim disbursement, the student receives an overpayment, the institution shall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it by adjusting TIV aid in the subsequent payment period, 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mburse the program account by the earlier of 60 days after the LDA, or the last day of the award year (for Pell, Perkins, or FSEO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0A10E4-43F5-4E33-93E6-00123FEDAD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s recovery - cont’d</a:t>
            </a:r>
            <a:endParaRPr b="0" lang="en-US" sz="4400" spc="-1" strike="noStrike">
              <a:solidFill>
                <a:srgbClr val="000000"/>
              </a:solidFill>
              <a:latin typeface="Arial"/>
            </a:endParaRPr>
          </a:p>
        </p:txBody>
      </p:sp>
      <p:sp>
        <p:nvSpPr>
          <p:cNvPr id="7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afford loans in excess of ne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must withhold and promptly return any portion of the disbursement not yet delivered for which the student is ineligi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ludes amounts of subsidized loans that as a result of verification, the student is no longer eligible to receiv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825B8C-DCF4-4C6B-95B3-41F1AAB126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of applications for verification</a:t>
            </a:r>
            <a:endParaRPr b="0" lang="en-US" sz="4400" spc="-1" strike="noStrike">
              <a:solidFill>
                <a:srgbClr val="000000"/>
              </a:solidFill>
              <a:latin typeface="Arial"/>
            </a:endParaRPr>
          </a:p>
        </p:txBody>
      </p:sp>
      <p:sp>
        <p:nvSpPr>
          <p:cNvPr id="7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chool is required to verify more than 30% of its total number of applicants for Title IV aid - the “30% ru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cords count in the 30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selected for verification on the basis of edits established by the Secretary</a:t>
            </a:r>
            <a:endParaRPr b="0" lang="en-US" sz="24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ERSU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s selected for verification by the institu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831315-3C20-46E2-A038-65D0A3116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0 % Rule</a:t>
            </a:r>
            <a:endParaRPr b="0" lang="en-US" sz="4400" spc="-1" strike="noStrike">
              <a:solidFill>
                <a:srgbClr val="000000"/>
              </a:solidFill>
              <a:latin typeface="Arial"/>
            </a:endParaRPr>
          </a:p>
        </p:txBody>
      </p:sp>
      <p:sp>
        <p:nvSpPr>
          <p:cNvPr id="7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ecords selected by the Secretary (CPS) count in the 30 %</a:t>
            </a:r>
            <a:endParaRPr b="0" lang="en-US" sz="24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institution determines the definition of “applicants” - for example, i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apply to the in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are enrol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 of students who receive aid</a:t>
            </a:r>
            <a:endParaRPr b="0" lang="en-US" sz="24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149F13-629B-4C15-9AEE-95D44F052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457200" y="914400"/>
          <a:ext cx="7848720" cy="5029200"/>
        </p:xfrm>
        <a:graphic>
          <a:graphicData uri="http://schemas.openxmlformats.org/presentationml/2006/ole">
            <p:oleObj progId="Word.Document.12" r:id="rId1" spid="">
              <p:embed/>
              <p:pic>
                <p:nvPicPr>
                  <p:cNvPr id="80" name="" descr=""/>
                  <p:cNvPicPr/>
                  <p:nvPr/>
                </p:nvPicPr>
                <p:blipFill>
                  <a:blip r:embed="rId2"/>
                  <a:stretch/>
                </p:blipFill>
                <p:spPr>
                  <a:xfrm>
                    <a:off x="457200" y="914400"/>
                    <a:ext cx="7848720" cy="5029200"/>
                  </a:xfrm>
                  <a:prstGeom prst="rect">
                    <a:avLst/>
                  </a:prstGeom>
                  <a:ln w="0">
                    <a:noFill/>
                  </a:ln>
                </p:spPr>
              </p:pic>
            </p:oleObj>
          </a:graphicData>
        </a:graphic>
      </p:graphicFrame>
      <p:sp>
        <p:nvSpPr>
          <p:cNvPr id="2" name="PlaceHolder 1"/>
          <p:cNvSpPr>
            <a:spLocks noGrp="1"/>
          </p:cNvSpPr>
          <p:nvPr>
            <p:ph type="sldNum" idx="3"/>
          </p:nvPr>
        </p:nvSpPr>
        <p:spPr/>
        <p:txBody>
          <a:bodyPr/>
          <a:p>
            <a:fld id="{2B013E57-6BA2-4CD2-AF23-E80BE0A6C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Tracking Field</a:t>
            </a:r>
            <a:endParaRPr b="0" lang="en-US" sz="4400" spc="-1" strike="noStrike">
              <a:solidFill>
                <a:srgbClr val="000000"/>
              </a:solidFill>
              <a:latin typeface="Arial"/>
            </a:endParaRPr>
          </a:p>
        </p:txBody>
      </p:sp>
      <p:sp>
        <p:nvSpPr>
          <p:cNvPr id="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02-’03 : Values – from highest priority to lowe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 01 – 99 (with 99 being the lowest)</a:t>
            </a:r>
            <a:endParaRPr b="0" lang="en-US" sz="28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03-’04 : Values  - from highest priority to lowe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 – 99 (with 99 being the highest &amp; 00 being the lowes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6110DC-361A-4B63-8585-1EA4CD4748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repant Information</a:t>
            </a:r>
            <a:endParaRPr b="0" lang="en-US" sz="4400" spc="-1" strike="noStrike">
              <a:solidFill>
                <a:srgbClr val="000000"/>
              </a:solidFill>
              <a:latin typeface="Arial"/>
            </a:endParaRPr>
          </a:p>
        </p:txBody>
      </p:sp>
      <p:sp>
        <p:nvSpPr>
          <p:cNvPr id="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institution has reason to believe that any information on the application used to calculate the EFC is inaccurate, it shall require the applicant to verify that information and resolve the discrepancy.</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can require an applicant to verify any data elements that the institution specif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BB4596-3D0F-4BEE-ABE8-430418A2C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ems to be verified</a:t>
            </a:r>
            <a:endParaRPr b="0" lang="en-US" sz="4400" spc="-1" strike="noStrike">
              <a:solidFill>
                <a:srgbClr val="000000"/>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I</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come Tax Pai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f family members in the household</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f family members in the household that who are enrolled as at least a 1/2-time student in an eligible postsecondary ins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axed Inco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149B3F-283E-4779-AF07-46E6650B6A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ying Applicant Information</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mp; Student Responsibiliti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taxed Income</a:t>
            </a:r>
            <a:endParaRPr b="0" lang="en-US" sz="4400" spc="-1" strike="noStrike">
              <a:solidFill>
                <a:srgbClr val="000000"/>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benefit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suppor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A/Keogh deduction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on a tax-free bonds</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income excluded from U.S. tax</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ned Income Credit</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ther untaxed income sour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F543CA-189B-45E2-8C7C-8B0B6E927B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cceptable Documentation</a:t>
            </a:r>
            <a:br>
              <a:rPr sz="4400"/>
            </a:br>
            <a:endParaRPr b="0" lang="en-US" sz="4400" spc="-1" strike="noStrike">
              <a:solidFill>
                <a:srgbClr val="000000"/>
              </a:solidFill>
              <a:latin typeface="Arial"/>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 &amp; Tax paid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igned copy of Federal income tax filing</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S 1040, 1040A, 1040EZ, 1040PC</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S Form 8453 (filed w/IRS e-file, is not sufficient)</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ile is o.k. if Tax Record is signed and submitted, confirmation #</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 - must file W-2s and IRS 4868 AND when taxes are completed, a copy MUST be submitted to you ( tracking)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all W-2 forms for the parents of dep student, or IRS W-2 forms for indep student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x forms are not available -</a:t>
            </a:r>
            <a:endParaRPr b="0" lang="en-US" sz="1800" spc="-1" strike="noStrike">
              <a:solidFill>
                <a:srgbClr val="000000"/>
              </a:solidFill>
              <a:latin typeface="Arial"/>
            </a:endParaRPr>
          </a:p>
          <a:p>
            <a:pPr lvl="2" marL="109728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py of an IRS form which lists tax account info (or IRS 4506)</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filer: a signed statement indicating that “did not file and not required to”, but lists income and sources</a:t>
            </a:r>
            <a:endParaRPr b="0" lang="en-US" sz="1800" spc="-1" strike="noStrike">
              <a:solidFill>
                <a:srgbClr val="000000"/>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84868A-8E1A-4076-9E1F-7DCC09C67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ptable Documentation</a:t>
            </a:r>
            <a:endParaRPr b="0" lang="en-US" sz="4400" spc="-1" strike="noStrike">
              <a:solidFill>
                <a:srgbClr val="000000"/>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family members in the househ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gned statement, listing the names and age of each family member, and the relationship</a:t>
            </a:r>
            <a:endParaRPr b="0" lang="en-US" sz="24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family members in an eligible postsecondary inst on at least a 1/2 time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ed statement, listing the names and age of each family member attending at least 1/2 time at an eligible institution, including the name of the institution and a statement indicating that each student listed will continue to be enrolled on at least a 1/2 time basi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488791-69F7-489A-8716-FC244F988D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dies during the award year before the verification process is completed</a:t>
            </a:r>
            <a:endParaRPr b="0" lang="en-US" sz="24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institution believes the data incorrect - the inst need not verify in the following situ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applicant and parents (for a dep student) are legal residents of No. Mariana Is., Guam, or American Samoa; 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applicant and parents (for a dep student) are legal residents of the Rep. of the Marshall Islands, the Federated States of Micronesia, or the Rep. of Pala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 is incarcerated at the time of verif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 is an immigrant having arrived in the U.S. during either calendar year of the award yea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D103D0-6C4B-42DC-9337-B141A9010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 institution believes the data incorrect - the inst need not verify in the following situ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nt’s (dep) parent(s) address is unknown and cannot be obtained by the appl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ependent applicant, both parents are physically or mentally incapacit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pplicant who does not receive assistance for reasons other than his or her failure to verify the information on the appl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fer had previously completed verification at the previous inst, obtains a letter from the previous inst to the current inst, stating the previous inst verified the data and includes the transaction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B3A30A-4B18-4F55-BA87-63C66F6DD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s from Verification</a:t>
            </a:r>
            <a:endParaRPr b="0" lang="en-US" sz="4400" spc="-1" strike="noStrike">
              <a:solidFill>
                <a:srgbClr val="000000"/>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need not require an applicant to document a spouse’s info or provide a spouse’s signature if the spou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cea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mentally or physically incapacit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siding in a country other than the U.S. and cannot be contacted by normal m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is unknown and cannot be obtain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4DBB5F-1016-4251-A57D-17C3AEBEE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Verification</a:t>
            </a:r>
            <a:endParaRPr b="0" lang="en-US" sz="4400" spc="-1" strike="noStrike">
              <a:solidFill>
                <a:srgbClr val="000000"/>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f the applicant/institution submits/receives the SAR/ISIR within 90 days of signing the FAFSA, the institution need not verif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the house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postsecondary</a:t>
            </a:r>
            <a:endParaRPr b="0" lang="en-US" sz="24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 of family members in the household or the child support is the same as was verified in the previous award year, it need not be verified in the current award yea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7F631B-7B99-416C-ABD9-D9BF1442A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dating information </a:t>
            </a:r>
            <a:endParaRPr b="0" lang="en-US" sz="4400" spc="-1" strike="noStrike">
              <a:solidFill>
                <a:srgbClr val="000000"/>
              </a:solidFill>
              <a:latin typeface="Arial"/>
            </a:endParaRPr>
          </a:p>
        </p:txBody>
      </p:sp>
      <p:sp>
        <p:nvSpPr>
          <p:cNvPr id="10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nt is REQUIRED to update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in the house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of family members attending a postsecondary inst (as of the day of the verification submiss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due to applicant marital status change CANNOT be updated</a:t>
            </a:r>
            <a:endParaRPr b="0" lang="en-US" sz="24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can occur ONLY as a result of being selected for verifi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83E311-A0EB-4AA3-9A49-7E1856D49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f - changes in app data</a:t>
            </a:r>
            <a:endParaRPr b="0" lang="en-US" sz="4400" spc="-1" strike="noStrike">
              <a:solidFill>
                <a:srgbClr val="000000"/>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data/corrections as a result of verification are required to be submitted to the Secretary i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itution recalculates and it results in a change in the EFC, and or the Pell grant aw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itution does not recalculate;</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are no errors in nondollar amounts used to calc the EFC,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ollar amount in excess of $400 as calculated by the following formula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FC95AB-707A-432F-A3B2-D6B548F1B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Tolerance</a:t>
            </a:r>
            <a:endParaRPr b="0" lang="en-US" sz="4400" spc="-1" strike="noStrike">
              <a:solidFill>
                <a:srgbClr val="000000"/>
              </a:solidFill>
              <a:latin typeface="Arial"/>
            </a:endParaRPr>
          </a:p>
        </p:txBody>
      </p:sp>
      <p:graphicFrame>
        <p:nvGraphicFramePr>
          <p:cNvPr id="106" name=""/>
          <p:cNvGraphicFramePr/>
          <p:nvPr/>
        </p:nvGraphicFramePr>
        <p:xfrm>
          <a:off x="914400" y="1752480"/>
          <a:ext cx="7184880" cy="5397480"/>
        </p:xfrm>
        <a:graphic>
          <a:graphicData uri="http://schemas.openxmlformats.org/presentationml/2006/ole">
            <p:oleObj progId="Word.Document.12" r:id="rId1" spid="">
              <p:embed/>
              <p:pic>
                <p:nvPicPr>
                  <p:cNvPr id="107" name="" descr=""/>
                  <p:cNvPicPr/>
                  <p:nvPr/>
                </p:nvPicPr>
                <p:blipFill>
                  <a:blip r:embed="rId2"/>
                  <a:stretch/>
                </p:blipFill>
                <p:spPr>
                  <a:xfrm>
                    <a:off x="914400" y="1752480"/>
                    <a:ext cx="7184880" cy="5397480"/>
                  </a:xfrm>
                  <a:prstGeom prst="rect">
                    <a:avLst/>
                  </a:prstGeom>
                  <a:ln w="0">
                    <a:noFill/>
                  </a:ln>
                </p:spPr>
              </p:pic>
            </p:oleObj>
          </a:graphicData>
        </a:graphic>
      </p:graphicFrame>
      <p:sp>
        <p:nvSpPr>
          <p:cNvPr id="3" name="PlaceHolder 2"/>
          <p:cNvSpPr>
            <a:spLocks noGrp="1"/>
          </p:cNvSpPr>
          <p:nvPr>
            <p:ph type="sldNum" idx="3"/>
          </p:nvPr>
        </p:nvSpPr>
        <p:spPr/>
        <p:txBody>
          <a:bodyPr/>
          <a:p>
            <a:fld id="{6CC0E23C-423A-4413-BFE0-D9ADD031C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Program Integrity important?</a:t>
            </a:r>
            <a:endParaRPr b="0" lang="en-US" sz="4400" spc="-1" strike="noStrike">
              <a:solidFill>
                <a:srgbClr val="000000"/>
              </a:solidFill>
              <a:latin typeface="Arial"/>
            </a:endParaRPr>
          </a:p>
        </p:txBody>
      </p:sp>
      <p:sp>
        <p:nvSpPr>
          <p:cNvPr id="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2 billion in grants, loans, and work-study assistanc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7 billion in Federal Pell</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million postsecondary students and their familie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itle IV programs to continue and to grow your actions insur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56F6CF-57D5-470E-B488-637252F5E3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Pell</a:t>
            </a:r>
            <a:endParaRPr b="0" lang="en-US" sz="4400" spc="-1" strike="noStrike">
              <a:solidFill>
                <a:srgbClr val="000000"/>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s a result of verification, the EFC 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nt MUST resubmit the correction to the C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ll award MUST be on the basis of the corrected SAR/ISI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08E8A2-4ACF-4692-8B63-A22956C23C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verification is not required</a:t>
            </a:r>
            <a:endParaRPr b="0" lang="en-US" sz="4400" spc="-1" strike="noStrike">
              <a:solidFill>
                <a:srgbClr val="000000"/>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P or SLEA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ubsidized Federal Stafford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 loa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F896F9-5CF6-4919-8E49-70DFEB4331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Status Cod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the student’s record has been verified. This is applicable for records selected by either the CPS or the institu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 the student has been selected for verification and the school has chosen to pay the initial disbursement of Pell without documentation</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 – verification not performed (includes QA school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215547D-8063-4F6F-A89A-07A66AE8FE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209680" y="2286000"/>
            <a:ext cx="5338800" cy="1477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Comic Sans MS"/>
              </a:rPr>
              <a:t>Questions?</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 name="PlaceHolder 1"/>
          <p:cNvSpPr>
            <a:spLocks noGrp="1"/>
          </p:cNvSpPr>
          <p:nvPr>
            <p:ph type="sldNum" idx="3"/>
          </p:nvPr>
        </p:nvSpPr>
        <p:spPr/>
        <p:txBody>
          <a:bodyPr/>
          <a:p>
            <a:fld id="{AD719DA9-879E-4105-B440-2668EE5EA2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resenter</a:t>
            </a:r>
            <a:endParaRPr b="0" lang="en-US" sz="4400" spc="-1" strike="noStrike">
              <a:solidFill>
                <a:srgbClr val="000000"/>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 - Acting Dire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ovisions, F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Klock@ED.GO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4026</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B76C06-F80D-4011-95B9-B07465CE7E1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 that</a:t>
            </a:r>
            <a:endParaRPr b="0" lang="en-US" sz="4400" spc="-1" strike="noStrike">
              <a:solidFill>
                <a:srgbClr val="000000"/>
              </a:solidFill>
              <a:latin typeface="Arial"/>
            </a:endParaRPr>
          </a:p>
        </p:txBody>
      </p:sp>
      <p:sp>
        <p:nvSpPr>
          <p:cNvPr id="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rovide the right amount of mone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right pers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right time; and </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right way.</a:t>
            </a:r>
            <a:endParaRPr b="0" lang="en-US" sz="3200" spc="-1" strike="noStrike">
              <a:solidFill>
                <a:srgbClr val="000000"/>
              </a:solidFill>
              <a:latin typeface="Arial"/>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Integrity is essential for the continued support of the public, Congress, and the administration for all Title IV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BF5AF4-573E-41C9-B54D-65B5B1436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w and its implementing Regulations</a:t>
            </a:r>
            <a:endParaRPr b="0" lang="en-US" sz="4400" spc="-1" strike="noStrike">
              <a:solidFill>
                <a:srgbClr val="000000"/>
              </a:solidFill>
              <a:latin typeface="Arial"/>
            </a:endParaRPr>
          </a:p>
        </p:txBody>
      </p:sp>
      <p:sp>
        <p:nvSpPr>
          <p:cNvPr id="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487 of the Higher Education Act of 1965 (HEA), as amended 20 U.S.C. 109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part E - Verification of Student Aid Application Information 668.51 - 668.61</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B9653B-29DF-43D6-B613-46C8B02FC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olicies and Procedures</a:t>
            </a:r>
            <a:endParaRPr b="0" lang="en-US" sz="4400" spc="-1" strike="noStrike">
              <a:solidFill>
                <a:srgbClr val="000000"/>
              </a:solidFill>
              <a:latin typeface="Arial"/>
            </a:endParaRPr>
          </a:p>
        </p:txBody>
      </p:sp>
      <p:sp>
        <p:nvSpPr>
          <p:cNvPr id="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shall establish and use written procedures for verifying information - the procedures MU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timeframe the applicant has to submit the requested documen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equences of not providing the documentation within the specified timefram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627D592-0E44-46A5-96A5-4B2099893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cies and Procedures - cont’d</a:t>
            </a:r>
            <a:endParaRPr b="0" lang="en-US" sz="4400" spc="-1" strike="noStrike">
              <a:solidFill>
                <a:srgbClr val="000000"/>
              </a:solidFill>
              <a:latin typeface="Arial"/>
            </a:endParaRPr>
          </a:p>
        </p:txBody>
      </p:sp>
      <p:sp>
        <p:nvSpPr>
          <p:cNvPr id="6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of notification if the EFC changes and results in a change to Title IV 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to correct application data that is in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used by the inst to refer an overpayment as a result of verification to ED</a:t>
            </a:r>
            <a:endParaRPr b="0" lang="en-US" sz="24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notification to the applicant by the institution must be performed in a timely fash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5B676C-5E4E-4D05-95B0-CFAAAA3B8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interim disbursements</a:t>
            </a:r>
            <a:endParaRPr b="0" lang="en-US" sz="4400" spc="-1" strike="noStrike">
              <a:solidFill>
                <a:srgbClr val="000000"/>
              </a:solidFill>
              <a:latin typeface="Arial"/>
            </a:endParaRPr>
          </a:p>
        </p:txBody>
      </p:sp>
      <p:sp>
        <p:nvSpPr>
          <p:cNvPr id="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quired documentation must be submitted by the earlier of the institutionally provided deadline date or that of the Secretary</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August 15, 2002 Federal Register (67 FR 53345)</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nstitution believes that the application data is inaccura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ISBURSE, EMPLOY, or CERTIF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D36DEB-9BAF-428B-8359-E5DF07E37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line dates &amp; interim disbursements - cont’d</a:t>
            </a:r>
            <a:endParaRPr b="0" lang="en-US" sz="4400" spc="-1" strike="noStrike">
              <a:solidFill>
                <a:srgbClr val="000000"/>
              </a:solidFill>
              <a:latin typeface="Arial"/>
            </a:endParaRPr>
          </a:p>
        </p:txBody>
      </p:sp>
      <p:sp>
        <p:nvSpPr>
          <p:cNvPr id="6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itution believes the application data is accurate, 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r>
              <a:rPr b="0" lang="en-US" sz="2000" spc="-1" strike="noStrike">
                <a:solidFill>
                  <a:srgbClr val="000000"/>
                </a:solidFill>
                <a:latin typeface="Arial"/>
              </a:rPr>
              <a:t> make the initial disbursement of Pell or campus-based, for the first payment peri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a:t>
            </a:r>
            <a:r>
              <a:rPr b="0" lang="en-US" sz="2000" spc="-1" strike="noStrike">
                <a:solidFill>
                  <a:srgbClr val="000000"/>
                </a:solidFill>
                <a:latin typeface="Arial"/>
              </a:rPr>
              <a:t>allow the student to be employed in a FWS job for up to the first 60 consecutive days of the award y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a:t>
            </a:r>
            <a:r>
              <a:rPr b="0" lang="en-US" sz="2000" spc="-1" strike="noStrike">
                <a:solidFill>
                  <a:srgbClr val="000000"/>
                </a:solidFill>
                <a:latin typeface="Arial"/>
              </a:rPr>
              <a:t> certify or originate a Stafford loan, but cannot deliver or disburse the loan proceed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itution makes an interim disbursement that causes an overaward, it is liable if not recovered from the stud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27D94F-2F91-4F6C-9E7F-62DFC2F5A5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2:18:57Z</dcterms:modified>
  <cp:revision>15</cp:revision>
  <dc:subject/>
  <dc:title>PowerPoint Presentation</dc:title>
</cp:coreProperties>
</file>