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059-0540-481C-ACA3-157C2C63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508-517F-49FB-AA5E-E403D212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ECA-0764-4066-AB7E-6270596C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C2E-D719-4705-86FF-204390C4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61F-0D94-4EAC-B31E-D8855D9F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526-F5D8-4F9C-98A5-0D603B82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830-FFDF-434C-9847-0667A8AC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322-39A0-4C4F-9C38-909BC7AD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3A9-1A88-4ACE-8EB7-0E3C98D3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4FD-A6A3-49F6-88E2-09C5632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B2B-B271-4C01-83DE-25E656E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007-566C-4B53-B627-650AC3E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CEBA-0794-4780-A729-28534B04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n Limi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tory Cours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 to “regular student”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ingle period of up to 12 month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undergrad level if required for admission to undergra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and beyond undergrad level if required for admission to gra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C2E-3225-4BF4-9DB5-A0E07852FD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ual Loan Limi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ealth Professions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nnual unsub limits for certain health professions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enrolled at least ½ time in program that was or would have been eligible under H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must be accredited by approved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991-EB05-4682-BCD1-C0CF5BEA5F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ual Loan Limi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ealth Professions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unsub amounts same as HEAL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by program and AY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 addition to “regular” FFEL/DL loan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ligible programs, loan limits, and accrediting agencies, see FSA Handbook, Vol. 8, GEN-99-21, GEN-98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2E7-6A65-4FD0-989B-510B391DFD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e Loan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ggregate reached, no further borrowing unless paid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limit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consolidated FFEL/DL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capitaliz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/professional aggregates include loans for undergra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unsub aggregates for health professions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AD2-9154-4963-8985-7BD8ACC5C4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e Loan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de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gregate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 Undergr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3,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b/uns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 Undergr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46,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3,000 s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/Pr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38,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65,500 s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f Undergr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70,6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3,000 su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f Grad/Pr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89,1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65,500 su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AF4-AFA6-4B4C-912B-77E9CA3632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n Limits: Important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ogram shorter than full AY, undergraduate student may not borrow more than prorated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 clock hour, 20-week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limited to single prorated loan, even if takes more than 20 weeks to complet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9A4-7A66-46AF-947D-AF709D0E36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n Limits: Important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-year undergrad program, student may not borrow more tha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year associate’s degre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takes 2 ½ years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inal ½ year, may receive prorated loan a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E0F-4FAB-41CA-A1FE-F3695B1D3E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n Limits: Important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dergrad program requires prior associate’s or bachelor’s degree, student may borrow at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and beyo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may not link separate programs to support higher loan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E1C-7EC9-45B6-9167-669B39BAD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n Limits: Important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year program “A” required for admission to 1-year program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loan limits apply to “A” and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“B” may not borrow a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level based on requirement to complete “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1D2-3C6B-4C69-9E8C-DC36454381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Pr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ration = reduction in annual loan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by law/regulations in som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only to undergrad loan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quired for grad/prof or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FEA-99C9-4407-9410-E53A882D39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0332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FEL and Direct Loa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an Limi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002-B84C-4A52-A56E-289BC86F35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s shorter than 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s equal to or longer than AY, but student is in final period of study that is shorter than 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CB4-2BA0-409A-9D27-7DE6D8FB1B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AY 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weeks of instruction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semester/trimester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quarter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0 clock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171-15BD-4B11-8C4E-D61EB7BFB2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ration: Final Period of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eriod of study = period at end of which student will complet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r than AY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erm-based, credit hour programs, fewer terms than school’s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nterm-based and all clock hour programs, fewer hours than minimum A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57C-5CC0-401D-B48E-95BDB0B236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ration: Final Period of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yr, term-based, credit hou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hrs rem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= fall-winter-spring (3 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enrolls for 12 hrs fall / 4 hrs winter / 8 hrs sp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eriod of study = fall + winter + spring (3 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ration NOT requ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CFA-3097-46E8-B6D1-1ECB33FE83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ration Method: Program Shorter Than 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28800"/>
            <a:ext cx="1600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2096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981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maller fr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743200"/>
            <a:ext cx="22096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rs i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s in 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743200"/>
            <a:ext cx="281916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eks i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s in 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09880"/>
            <a:ext cx="1600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962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loan limit by smaller fr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181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,625  x  Smaller Fraction  =  Prorated Loan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027-9298-4C8C-96EA-71B4A9F797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ration Method: Program Shorter Than 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971800"/>
            <a:ext cx="1600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22096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124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maller fr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749760"/>
            <a:ext cx="8380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978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733920"/>
            <a:ext cx="6858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664160"/>
            <a:ext cx="1600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81644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loan limit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f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5638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,625  x  .40  =  $1,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828800"/>
            <a:ext cx="82296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 =  400 clock hours / 12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 = 900 clock hours / 30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= .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.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E04-A6B2-4A0D-BB78-C641ABF258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ration Method: Final Period Shorter Than 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22096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5812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Annual Loan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657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733920"/>
            <a:ext cx="2819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rs in Final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s in 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35812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rated Loan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4DF-8361-4215-A14B-0032A4AC4E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ration Method: Final Period Shorter Than 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2096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091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657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4998960"/>
            <a:ext cx="10666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507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075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98108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underg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period  of study =  fall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emester hours in final period of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  =  24 semes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5075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= .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D95-B59C-46B0-B5B1-FCFDECFDDA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of Annual Loan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may receive maximum annual loan limit each 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period not always same as 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limits apply to AY, not loa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who receives maximum may not borrow again until next 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Y standa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Academic Year (S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-Based Academic Year (BB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686-2FA4-4A58-804D-9734CBDE65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duled Academic Ye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-based program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calendar period published in school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begins/ends at same time each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et minimum A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620-E5E9-4848-A65A-6DD5931E0D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EL &amp; DL: Loan Limi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/aggregat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or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and B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(Miniter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oan limi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CCD-E05C-4F35-9156-193AE89060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eed not be enrolled in al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term may be “trailer” or “head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/ by program / case-by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miniterms may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as on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to different 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1BF-F99D-4598-A0E7-6B589AF56C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-Spring + Summ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+ Fall-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-Spring + Summer Miniterm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Miniterm #2 + Fall-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BA9-F926-4C94-B904-D9E44F8B69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rower-Based Academic Year (BB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used for term-bas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used  for nonterm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rules for term-based and non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begin/end at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s with student’s attendance/progression i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2E4-D617-45E0-AD89-2054E527CA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BAY: Term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use if SAY meets minimum A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use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alternate SAY and BBAY if no ove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AY may allow student to borrow so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D1E-F4AE-4E43-8D55-46F06B910C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BAY: Term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same # of terms as SAY (excluding sum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nclude terms when student does not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must be enrolled in firs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erms mus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least ½ time 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F89-64E6-4423-AE27-BAB3426ABE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BAY: Term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AY that includes summer term need not meet AY minimum weeks/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header/trailer concept does not apply to B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SAY, miniterms must be combined and treated as single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loan limit applies to B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C97-ECE9-43F8-9185-EECF0CA6A5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BAY: Term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’s SAY = fall-winter-spring (3 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AY = any 3 consecutiv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starts BBAY in sp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AY #1 = spring-summer-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AY #2 = winter-spring-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AY #3 = fall-winter-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AY #4 = summer-fall-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D13-32AD-46FE-A662-CF1D82DE1F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SAY to BB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= fall-spring + summer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ceives maximum loan for fall-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ummer loan eligibility with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for new annual loan limit if school switches student to BBAY (= summer-fall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1D9-C5B9-4432-B458-4864CEEBC4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BAY: Nonterm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t use B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AY must meet minimum A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ligibility for new loan limit until student comple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s in BBAY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s of instruction in B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BE9-C4E1-4AE0-85D2-7973592085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BAY: Nonterm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year, 1800 clock hou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BBAY = 900 hours / 30 weeks comple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BBAY = 900 hours / 30 weeks comple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A47-090D-48A1-836D-AF3358E38E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ual &amp; Aggregate Loan Li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loan limit = maximum FFEL/DL student may borrow in 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 loan limit = maximum outstanding FFEL/DL loan debt a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and aggregate limits are for both FFEL and 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5F4-4A62-4306-8BA2-F01ED92F87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AY and BB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-ba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egains eligibility for new annual loan limit after end of SAY/BBAY calendar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ment status does not affec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nterm-ba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egains eligibility for new annual loan limit only after completing hours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eks in B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ment status affects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692-0D14-4D23-A3E9-EC4BC9A37E4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rm-Based 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= fall-spring + summer tra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ceives maximum annual loan for fall-spring; does not attend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for new annual loan limit in fall (start of new S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5BB-17D6-4047-9F7B-368E156B9C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rm-Based BB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AY = summer-fall-w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ceives maximum annual loan for summer-fall-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for new annual loan limit in spring (start of new BB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BAY = spring-summer-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AD0-D1D2-428B-B054-60C2DF1F139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: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term-Based BB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year, 1800 clock hou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eceives maximum loan a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level for first 900 hours/30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s less than fulltime and completes fewer than 900 hours in first 30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ligible for new loan limit a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level until completion of 90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DAA-9A99-495C-AC4C-DD87D3B8F24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 During 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-Based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who receives annual maximum during AY may not borrow again until next AY unles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es to grade level with higher annual loan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olls in program at grade level with higher annual loan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from dependent to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orrow difference between higher limit and amount already received for same 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0BA-8ABF-434D-9537-D327636999B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 During 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-Based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= fall-spring + summer tr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dependent receives $3,500 for fall-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es to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status at beginning of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pring + summer, may borrow $5,500 minus $3,500 alread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,000 additional eligibility for spring +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34E-DEBC-4DAD-A1AA-DAF53932FF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 During 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term-Based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who receives maximum annual loan during BBAY may not borrow again until next BBAY unless changes from dependent to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ncreased eligibility within BBAY based on grade level pro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does not advance to next grade level until hours/weeks in BBAY ar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0CF-F3C5-4666-A251-EC7D37B8C17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 During 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term-Based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year, 1800 clock hou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student receives $2,625 for first BBAY (900 hours/30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first BBAY, student becomes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receive additional $4,000 unsub for first B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E12-02C7-4C31-AF11-6D015B9416A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aining Eligibility During 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term-Based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year, 1800 clock hou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student receives $2,625 for first BBAY (900 hours/30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mpletes 900 hours in 25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progress to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level until completes 5 additional wee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A2C-00B5-439B-BD2A-2B250FA56C1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udent borrowed at previous school, current school must determine if current loan period overlaps AY at previous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exists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chool’s loan period begins before prior school’s loan period end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chool’s loan period begins after prior school’s loan period ends, but less than 30 weeks have elapsed since prior loan period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2DD-4785-493C-A7E1-2A6ACC07CDB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Loan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mits for certain health professions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8DB-9390-45B8-B143-9C158E42BB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verlap exists, current school may award loan for difference between annual loan limit and amount borrowed at previous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overlap, current school may award up to annual loan li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D2B-9745-4CC0-A3B9-0D9D6F6F94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alled mini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within a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s are sequential, not con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may ove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ment may begin with any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ay skip one or more modules within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744-E41C-4D8E-A992-EA9100A8AB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ment stat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combined enrollment from all modules within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Title IV rules for standard terms apply when there are modules within a standard 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B2A-EE9D-4BA5-93BE-E94B5A24055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arliest attendance fo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b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 excludes periods of non-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FD8-F519-408C-B7DE-781E2C4EE49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Title IV 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ing after completion of at least one modul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withdra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f Title IV regs do not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ing before completion of at least one modu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withdra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f Title IV regs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08E-BBE2-44E8-84A6-2B88448FA92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-base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offers three 4-week modules within summer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egisters for one 4-credit class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does not attend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71C-49C2-42CD-9A0E-22CFA9C42B0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1 (continu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ment status = 8 credits (1/2 tim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bursement based on attendance beginning on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 based only on time covered by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778-C7AA-4A9B-9F2D-978F264902F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1 (continu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mpletes course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, but does not attend course i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withdra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turn of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5F4-DEDB-4178-B378-929E803F960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Example 1, but student completes course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, starts course i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, but then withdr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withdra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turn of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C93-82F0-4E5C-8B28-A05085BD938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Example 1, but student drops course i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, and fails to attend i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a withdra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f aid calcul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2A8-10BE-4288-AABF-F556F6A63C6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ual Loan Limi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ent Undergradu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are for sub/unsub (any combin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de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an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,6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&amp; bey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,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B45-65CA-457E-8C23-C1CE1942FA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From Higher to Lower Loan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received for graduate study do not count toward undergraduate annual/aggregat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unsub based on PLUS denial does not count toward dependent annual/aggregat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unsub for health professions students does not count toward regular annual/aggregat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CE9-648E-4857-9C85-1257448AD0D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From Higher to Lower Loan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irst undergraduate program, student borrowed $20,500 sub and $10,000 uns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raduate program, borrowed $45,000 sub and $40,000 uns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nrolled in second undergraduat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EE4-53BF-4425-8B91-9A95B8015C9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From Higher to Lower Loan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1 (continu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oans for first undergraduate program ($30,500) count toward undergraduate aggr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eligibility for second undergraduate program = $15,500 unsub ($46,000 minus $30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sub aggregate ($65,500) already borrowed, so no remaining sub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9E8-7B74-4C7B-8A7D-EB1D02632C9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From Higher to Lower Loan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undergraduate in 4-yea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additional unsub for first 3 years based on PLUS de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ear 4, parent is approved for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9D9-675A-4334-950B-D17F853E704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From Higher to Lower Loan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2 (continu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borrowed $24,625 for first 3 years, including $13,000 additional un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year 4, $13,000 additional unsub does not count toward dependent aggregat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borrowed toward dependent aggregate limit = $11,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eligibility under dependent aggregate limit = $11,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734-A2B8-41DD-B530-ED9955950A2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and Additional Un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 receives PLUS at beginning of AY, but later in year applies for more PLUS and is denied, student may receive additional unsu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must be counted as E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D79-AB57-4E3F-9AC3-9395EC9B894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and Additional Un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receives additional unsub based on PLUS denial at beginning of AY, but later in year parent applies for PLUS and is approved, school may award PL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ancel any pending additional unsub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unsub already disbursed must be counted as E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40C-175D-431D-BA51-CB6B558AA70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Loans at Same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ederal limit on number of times student may receive maximum loan at same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must meet all eligibility requirements, including 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ay plac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ame for all students in sa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applied case-by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FEL, GA may also plac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C2F-3DC0-4B04-B13C-0CFE578BAAE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ing/Limiting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may not have a general policy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loan amounts based on enrollment status or length of AY attended by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loan amounts to institutional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1D2-D963-49BE-AACD-8F229469476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ing/Limiting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policy may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t half-time students from receiving more than half of the annual loan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an eligibility for students who are enrolled for only one term of an AY that is not a final period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A62-91E5-42C4-B745-38723D92B42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ual Loan Limits: Independent Undergradu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or dependent undergrads whose parents can’t borrow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ay not award based on school’s non-participation in PL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de Lev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an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,625  ($2,625 su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,500  ($3,500 su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&amp; bey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500  ($5,500 su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5A5-2C6B-4E4D-8916-2C0417A963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Limit Issu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ing/Limiting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may refuse to award loan or award less than borrower’s eligibility only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is documented and given to borrower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is taken on case-by-cas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is kept in student’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is not based on race, gender, color, religion, national origin, age, disability status, or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1E6-FCB5-4D41-84DB-D71CA2032B4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/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 Handbook, Volum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Colleague Letter GEN-97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Newcombe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.Utz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D9A-E834-4A9D-8B84-C9C722BD4B8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ual Loan Limi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uate/Professional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8,500 ($8,500 sub) for 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r students 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been admitted into grad/professional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nrolled at least ½ time in courses that count toward completion of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FEA-97DD-4E0A-85F7-3FCFEC1D39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n Limi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acher Cer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to “regular student”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t least ½ time in program required by state for teacher certification/re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orrow at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 and beyond undergra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4: FFEL and Direct Loans - Loan Limit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18F-D3E9-4936-BB54-E1F2490175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2T18:56:21Z</dcterms:modified>
  <cp:revision>46</cp:revision>
  <dc:subject/>
  <dc:title>PowerPoint Presentation</dc:title>
</cp:coreProperties>
</file>