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422-9B76-4720-A0D3-133B9E27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81B-3056-4D1C-B347-740B0857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D226-B058-47EA-8E52-FD987FFD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065-79A9-44D7-83DE-6A8356BD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880-E62A-4D0B-A644-ACBAE422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05B-BC88-4E84-8A2E-0B09CD83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552-4103-4646-9826-4C501CAE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84A-A556-472D-97AF-0034DDB8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AB42-4557-402B-8C69-B6282612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251-BDE5-4988-9D6E-527C916C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364-63EF-4CE5-A5BE-F2FECF4A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97B-AB84-44A5-A82A-EAFB7BC2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3F1E-574E-4F35-B2BF-A1612EF51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pring%20Conference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slh2@psu.edu" TargetMode="External"/><Relationship Id="rId2" Type="http://schemas.openxmlformats.org/officeDocument/2006/relationships/hyperlink" Target="mailto:rcd7@psu.edu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or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Group…no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C3A-9E44-480E-AD5F-34E7718D7A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id not accept their offer of admission were eliminated from the original coh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of each cohort with TIV loans have been tracked yearly since 1996 to determine loan defaul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E3C-EA6B-4AA1-8EFE-03DE10F517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o point in the study have the differences in default rates for each cohort been statistical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BCD-CCF6-418C-906B-5EA17AF562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8600" y="3124080"/>
          <a:ext cx="8763120" cy="270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124080"/>
                    <a:ext cx="8763120" cy="27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212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table shows results from the six-year study for the 2001-2002 academic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iginal sample reduction comes from eliminating students who did not accept their offer of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188-9D88-403F-A719-455FE69347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28600" y="3200400"/>
          <a:ext cx="8763120" cy="27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00400"/>
                    <a:ext cx="876312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762120" y="990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can be seen, the number of students with TIV loans is approximately 82% for each co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7AC-10AC-4D21-AC2A-93040B68ED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28600" y="3200400"/>
          <a:ext cx="8763120" cy="27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00400"/>
                    <a:ext cx="876312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066680" y="8380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in default who are PSU graduates represent from 0.2% to 0.7% of their co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nsidering only PSU graduates in each cohort, default rates range from 0.3% to 1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differences among cohorts are not statistically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489560" y="3352680"/>
                <a:ext cx="16488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0A0-6D6B-4060-8CFF-3DE349674A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28600" y="3200400"/>
          <a:ext cx="8763120" cy="27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00400"/>
                    <a:ext cx="876312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066680" y="8380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in default who have not graduated from PSU represent 3.6% to 4.7% of their co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differences among cohorts are not statistically signif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69A-7F46-4A86-9411-F3F6589F59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990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verall default rates of the four cohorts range from 4.1% to 5.3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differences among cohorts are not statistically signif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3200400"/>
          <a:ext cx="8763120" cy="27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00400"/>
                    <a:ext cx="876312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495680" y="3346560"/>
                <a:ext cx="1526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4FD-AD7F-47F5-91FD-5E3A924B6B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 significant differences in default rates among the treatment groups or the control group, suggesting that entrance and exit counseling have no effect on loan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results suggest that additional research should be conducted to identify more effective strategies for lowering defaul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76F-D2F6-45C6-8A53-54D976FE00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 State is conducting predictive modeling studies in an attempt to identify, at the student level, those borrowers most likely to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 is being conducted by building longitudinal data sets with institutional, NSC, and NSLDS data and employing logistic regression and discrete-time surviv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18E-E85D-4F07-8AC3-E42AF1472A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80332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rance and Exit Counseling Flexibilities and 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E85-4E19-4AB8-BD6D-72C11DF77E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90360" y="1219320"/>
            <a:ext cx="7010280" cy="33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 Howell 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lh2@psu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y Deike 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cd7@psu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6C2-A4E1-480D-8662-D4B3D8F90B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Entrance and Exit Counseling Make a Difference in TIV Loan Default R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ession provides an overview of research conducted at Penn State University to study the effects of entrance and exit counseling on loan default behav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EAB-EE9B-4042-ADD2-B76469EF25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ng Inter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attribute changes in some outcome to a particular intervention, an experimental design must be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, a change in outcome, such as decreasing default rates, is attributed to some particular intervention without controlling for competing explanations for tha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U example of what not to do– loans and schola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895-A04B-4012-A4DA-8AE0361D56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ization is important if we are interested in making caus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ization “standardizes” groups, and in theory, eliminates competing explanations for the study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and Contro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groups involve some intervention, such as traditional entrance/exit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group receives no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AD7-B1BD-4FB7-AC6B-5918D3DBE1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8377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n State’s Entrance/Exit Counseling Stud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selected and assigned 6,000 of 9,000 newly admitted undergraduate students awarded TIV loans to 1 of 3 treatment groups and a contro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roup (cohort) was compared to the overall population on factors such as loan type, loan amount, income, ethnicity, residency, etc., to determine cohort representativene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F9E-F669-4B41-AACC-1B11FA86BE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o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ulatory entrance and exit counseling requirements were fo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D0C-9EF0-4BD0-B3BC-D8E9839B4A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o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exit counseling for Federal Stafford Loan borrowers who fall from degree status to non-degree status, are in good academic standing but do not return for the next semester, and who withdraw during a sem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tudents receive a letter with lender, loan consolidation, and forbearance information, and an estimate of their monthly payment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377-6C28-4E98-9BCC-414B9A9943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o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exit counseling for Federal Perkins Loan borrowers who leave Penn State for any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e provided with the federally required information with one exception, copies of promissory notes are not included, and students are called to establish paym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D64-C4F8-4227-9689-7EC3F1436B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PAUL HILL, JR</cp:lastModifiedBy>
  <dcterms:modified xsi:type="dcterms:W3CDTF">2003-03-17T14:47:21Z</dcterms:modified>
  <cp:revision>44</cp:revision>
  <dc:subject/>
  <dc:title>PowerPoint Presentation</dc:title>
</cp:coreProperties>
</file>