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069-0F11-452B-B95D-6272EE7C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AD8-644C-4BEA-8CDB-8DD09E28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AE6-9982-4591-8AA6-DE421431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089-2D24-4340-B701-B5CA8C59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08F-2402-44E1-A809-4AF586F3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394-172D-475C-8C62-A5E25CDA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A44-4899-4FD5-8E1F-20C4C846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16F-81F5-43D2-B3BE-1D5E1819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E66-3540-4E10-A64F-1E6F1568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72D-4C4C-465D-9640-B028682A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D91-E9C5-4C1D-BBAB-B3C5A7D6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CD0-1058-4C02-A13A-95E23532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8CF4-9300-46CA-8A04-2A992854B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slh2@psu.edu" TargetMode="External"/><Relationship Id="rId2" Type="http://schemas.openxmlformats.org/officeDocument/2006/relationships/hyperlink" Target="mailto:rcd7@psu.edu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Group…no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D35-BF13-46D0-8AC8-08906957CF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id not accept their offer of admission were eliminated from the original coh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of each cohort with TIV loans have been tracked yearly since 1996 to determine loan defaul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D4F-0BDC-4AF2-B869-DBE6E759D8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o point in the study have the differences in default rates for each cohort been statistic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EE9-F5F3-4817-892D-C7E7DD31E5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8600" y="3124080"/>
          <a:ext cx="8763120" cy="270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124080"/>
                    <a:ext cx="8763120" cy="27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212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table shows results from the six-year study for the 2001-2002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sample reduction comes from eliminating students who did not accept their offer of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924-1DDD-4DB9-A512-260C18A74C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28600" y="3200400"/>
          <a:ext cx="8763120" cy="27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87631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76212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can be seen, the number of students with TIV loans is approximately 82% for each co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CE9-A616-4ECB-A6FD-99BCDB342B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28600" y="3200400"/>
          <a:ext cx="8763120" cy="27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87631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066680" y="8380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in default who are PSU graduates represent from 0.2% to 0.7% of their co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nsidering only PSU graduates in each cohort, default rates range from 0.3% to 1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ifferences among cohorts are not statisticall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89560" y="3352680"/>
                <a:ext cx="1648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7AF-E8D9-4D89-ADC0-3FE9A4C81F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28600" y="3200400"/>
          <a:ext cx="8763120" cy="27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87631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066680" y="8380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in default who have not graduated from PSU represent 3.6% to 4.7% of their co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ifferences among cohorts are not statistically signif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955-1E87-40F5-BA09-E19E5FA545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verall default rates of the four cohorts range from 4.1% to 5.3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ifferences among cohorts are not statistically signif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3200400"/>
          <a:ext cx="8763120" cy="27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87631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495680" y="33465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238-B06C-446F-83BD-E7EA66DAD6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significant differences in default rates among the treatment groups or the control group, suggesting that entrance and exit counseling have no effect on loan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esults suggest that additional research should be conducted to identify more effective strategies for lowering defaul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E70-C1F4-4D13-8199-517AFCAA5B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 State is conducting predictive modeling studies in an attempt to identify, at the student level, those borrowers most likely to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 is being conducted by building longitudinal data sets with institutional, NSC, and NSLDS data and employing logistic regression and discrete-time surviv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F6F-3381-490C-876E-A9DDE24D66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0332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rance and Exit Counseling Flexibilities and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C4C-21E6-4BAF-83ED-002CC3868D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90360" y="1219320"/>
            <a:ext cx="7010280" cy="33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 Howell 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lh2@ps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y Deike 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cd7@ps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3BF-D0E4-4421-AEA5-62833ADD31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Entrance and Exit Counseling Make a Difference in TIV Loan Default R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ssion provides an overview of research conducted at Penn State University to study the effects of entrance and exit counseling on loan default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BA2-467F-49F2-B296-E984406856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ng Inter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attribute changes in some outcome to a particular intervention, an experimental design must be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a change in outcome, such as decreasing default rates, is attributed to some particular intervention without controlling for competing explanations for tha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U example of what not to do– loans and schola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16D-BB7C-4F92-AF63-83E69E0BA5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ation is important if we are interested in making caus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ation “standardizes” groups, and in theory, eliminates competing explanations for the study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and Contro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groups involve some intervention, such as traditional entrance/exit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group receives no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D65-CEC2-4AA3-835D-9D53D9AC49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8377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n State’s Entrance/Exit Counseling Stud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elected and assigned 6,000 of 9,000 newly admitted undergraduate students awarded TIV loans to 1 of 3 treatment groups and a contro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roup (cohort) was compared to the overall population on factors such as loan type, loan amount, income, ethnicity, residency, etc., to determine cohort representativene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33D-E345-4F73-B1C8-478CEFA185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ulatory entrance and exit counseling requirements were fo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B1E-B0E1-4A86-AFC4-F22FCDB83D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exit counseling for Federal Stafford Loan borrowers who fall from degree status to non-degree status, are in good academic standing but do not return for the next semester, and who withdraw during a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tudents receive a letter with lender, loan consolidation, and forbearance information, and an estimate of their monthly payment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5FF-DE3A-4DFA-A865-142C7C1356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exit counseling for Federal Perkins Loan borrowers who leave Penn State for any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provided with the federally required information with one exception, copies of promissory notes are not included, and students are called to establish paym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2C2-B349-4AAA-85D5-441491FA63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PAUL HILL, JR</cp:lastModifiedBy>
  <dcterms:modified xsi:type="dcterms:W3CDTF">2003-03-17T14:47:21Z</dcterms:modified>
  <cp:revision>44</cp:revision>
  <dc:subject/>
  <dc:title>PowerPoint Presentation</dc:title>
</cp:coreProperties>
</file>