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BAB-10BB-4639-B4FE-E26312AC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124-3F0E-4B51-855E-4CCF5EEF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3EC-2F3F-4127-96D9-8A3660E6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226-24D4-4C6D-9B21-6CA91D55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094-F5FE-41C3-AE8E-CB06019A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9D7-4AC7-4830-993F-B5ADCD14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581-EB88-4501-9C06-2CD28832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9F3-1C1F-41F9-A3DB-0CCCFD8F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AB7-4866-4711-A483-76C84025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8F8-F7DD-42DE-928C-DAC046D9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E3B-0AA0-470A-ACC7-4304F13A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D14-64D7-424E-B043-7A83BDFB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6090-F42F-42FE-8D48-727D2099F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pring%20Conference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n Proration practices for graduating borr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ward of Title IV aid to students not passing an “Ability to Benefit” test, but successfully completing at least six hours of cours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906D-A528-460D-A85F-FF56CA29D2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E2B-C857-44B7-B81D-57C047B83D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e Data Tell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what participating institutions say about the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how participating institutions compare with those who do not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C0D-9ECE-418D-8E3D-C9F89EC9BC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ilities from requirements in the experiment can impac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secondary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itutions they at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der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AE3-4AC3-426D-A816-B679192341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s As Stakeho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ilities from requirements in the experiment can impac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indebt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286-E5BD-4696-9937-AB9749BDA8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s as Stakeho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ilities from requirements in the experiment can impac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ense and workload associated with providing access to student 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ality of customer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DDA-4EB6-47C6-A69F-F6EF10607D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ederal Government as a Stak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ilities from requirements in the experiment can impac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ense associated with providing student 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lume of aid available to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onfidence in the integrity of th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3CF1-0DD0-412E-985D-BAA4DF1D42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s As Reported by Participating Instit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quantitative data on student participation, impact on academic progress and default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(limited) quantitative data for the expense and workload associated with providing student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ecdotal/qualit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9165-06E8-4B6E-B7CA-E67C63E8AF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Outcomes With Other Instit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LDS, PEPS, IPEDS and the College Board’s Common Data Set (C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NSLDS, an Experimental Default Measure (EDM) and an Experimental Graduation Rate (EG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PEPS, IPEDS and the CDS, institutional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B80-D0F9-4615-8385-28FA1135D7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omp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sess the impact of the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Y2000 default ra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% (P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Sites default r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7% (self-repor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ain “counter-intuitive”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s meeting rigorous exit counseling requirements: 8.1% E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s exercising flexibility in exit counseling: 2.8% EDM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2C4-0FC9-48EC-B682-2C75838B2D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re and Contras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80332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Experimental Sites Initiative Data 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EC88-C18B-4EC4-AC06-9A2FECAA72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imilar? – Type of I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981080"/>
          <a:ext cx="7772400" cy="2462400"/>
        </p:xfrm>
        <a:graphic>
          <a:graphicData uri="http://schemas.openxmlformats.org/drawingml/2006/table">
            <a:tbl>
              <a:tblPr/>
              <a:tblGrid>
                <a:gridCol w="1943280"/>
                <a:gridCol w="1485720"/>
                <a:gridCol w="2209680"/>
                <a:gridCol w="2133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Analytic Data 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ng X-S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4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 Years or 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BFF-DBA5-4A10-9B3D-A13ED1B251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imilar? – Control of I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981080"/>
          <a:ext cx="7772400" cy="3225960"/>
        </p:xfrm>
        <a:graphic>
          <a:graphicData uri="http://schemas.openxmlformats.org/drawingml/2006/table">
            <a:tbl>
              <a:tblPr/>
              <a:tblGrid>
                <a:gridCol w="1943280"/>
                <a:gridCol w="1257120"/>
                <a:gridCol w="2438280"/>
                <a:gridCol w="21337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Analytic Data 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ng X-S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riet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B90-57BB-4B3F-9AE8-BA5185DD1B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imilar? – Geographic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981080"/>
          <a:ext cx="7772400" cy="3733920"/>
        </p:xfrm>
        <a:graphic>
          <a:graphicData uri="http://schemas.openxmlformats.org/drawingml/2006/table">
            <a:tbl>
              <a:tblPr/>
              <a:tblGrid>
                <a:gridCol w="1828800"/>
                <a:gridCol w="1219320"/>
                <a:gridCol w="2286000"/>
                <a:gridCol w="243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Analytic Data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ng X-Si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Eng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-Atlan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02D-C49B-48BC-947D-CB52665BB6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imilar? – Average Enroll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Data Set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,1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Analytic Data Se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,9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ng X-Sit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,1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2BF-DCD7-467B-A198-0E68F6A068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eports: What participating institutions say about the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lyses:  How the characteristics of institutions influence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927-C5FF-4BC6-B637-C7ABBAD726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n Proration for Graduating Borr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proration has no affect on student graduation tim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negatively impact student indebt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s average savings of 1.4 workhours and $18 per borrower (14 and 13 institutions reporting, respective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327-9C29-473B-A160-DD48C5FE34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n Proration for Graduating Borr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R       for all borrowers at Experiment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R unchanged for part-time borrowers at Experiment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for part-time borrowers is not stro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11480" y="2668680"/>
            <a:ext cx="347400" cy="328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26D-271D-4509-8D74-925CEA3D61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ward 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experience a diminished level of fr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s may save in excess of $5,700 per year (SUNY, Brock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wards of $300 or less are rare – only 2% of borrowers at participating institutions received overa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A71-EC93-4C18-B1B9-3363974578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ward 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M       for borrowers at Experiment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rankings for the FY2000 CDR and the EDM indicate that default rates were lower – and remain low – at institutions participating in the experimen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24160" y="2647800"/>
            <a:ext cx="347760" cy="328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664-AB8B-49EB-9B11-9CD33113E6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n Fees in the Cost of Atten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reduce student indebt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the high cost of education, inclusion has a minimal influence on loan funds eli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s save four-tenths of a workhour and $75 per borrower (8 institutions repor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391-A6AC-46EB-9418-879D29C158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qulyn S. Ban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Department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ke J. Wilson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C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01F-0FA3-4467-8E63-39BA4DBB5F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n Fees in the Cost of Atten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M unchanged for borrowers at Experiment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R unchanged for borrowers at Experiment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rankings for the FY2000 CDR and the EDM indicate that default rates were lower – and remain low – at institutions participating in the experimen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13C-0FE7-4AA5-A005-F88A1D737F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dit of Title IV Aid to Otherwise Non-allowable Institutional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do not differentiate between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than 0.4% decline cred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represented only 4% of all Title IV 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s save time and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6C6-04B8-4AD2-8945-0FB735D240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dit of Title IV Aid to Otherwise Non-allowable Institutional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M      for borrowers at Experiment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R      for borrowers at Experimental Sites (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rankings for the FY2000 CDR and the EDM indicate that default rates were lower – and remain low – at participating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2590920"/>
            <a:ext cx="347760" cy="328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124080"/>
            <a:ext cx="347760" cy="328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F9E-9656-40FD-9CF9-F039E5EE9D7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of Title IV Aid to Prior Term Char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s an obstacle in the path of academic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tudents decl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s to superior custome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s institutions time and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3B6-E857-4420-88FB-1ED6EE7403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of Title IV Aid to Prior Term Char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M unchanged for borrowers at Experiment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R     for borrowers at Experiment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rankings for the FY2000 CDR and the EDM indicate that default rates were not different in the past, but are now lower at participating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43280" y="3543480"/>
            <a:ext cx="347400" cy="328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142-F54A-4E84-8B73-CA297E8E38C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Disbursement of Single-Term Lo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students to avoid emergency loans and other stop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1.3% of students with single-term loans withdrew before mid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s averaged yearly savings of $13,649 (14 repor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reduction in workhours per borrower of 48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82D-D4FD-4EF1-BCA8-423B854646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Disbursement of Single-Term Lo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M       for borrowers at Experiment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R       for subset of single-term borrowers at Experimental Sites in the spring of 2002 (but model is not stro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rankings for the FY2000 CDR and EDM indicate that default rates were lower – and remain low – at participating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2643120"/>
            <a:ext cx="347400" cy="328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3124080"/>
            <a:ext cx="347400" cy="328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1B7-3D0D-495A-85DC-003FF1CE05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emption From the 30-day Delay of Awards to First-year, First-time Borr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hardships associated with high startup costs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0.6 percent of borrowers withdrew within 30-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s averaged yearly savings of $11,334 (12 repor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reduction in workhours per borrower of more than an hour (11 repor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9433-8412-46DC-A8A2-A96E5235CE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emption From the 30-day Delay of Awards to First-year, First-time Borr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M     for borrowers at Experiment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man withdrawal rate     for students at institutions NOT participating in the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rankings for the FY2000 CDR and EDM indicate that default rates were lower – and remain low - at participating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57320" y="2629080"/>
            <a:ext cx="347760" cy="328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76880" y="3105000"/>
            <a:ext cx="347760" cy="3286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895-844F-40FF-8C57-24F063B545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iver of Entrance Loan Counseling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flexibility allows institutions to tailor counseling and redirect resources to high risk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saving of $29 per borrower (10 institutions repor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reduction of 1.3 workhours per borrower (12 institutions repor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9403-0F65-4353-B401-E666F90572D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purpose of the Experimental Sites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participants’ perspective and results for the 2001—02 reporting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analytic results of comparisons between experimental sites participants and non-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3DA-505C-48E0-AD09-0545FF8CD1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iver of Entrance Loan Counseling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M     for borrowers at Experiment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man withdrawal rate     for students at institutions NOT participating in the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rankings for the FY2000 CDR and the EDM indicate that default rates were lower – and remain low at participating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533680"/>
            <a:ext cx="347760" cy="328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76880" y="3005280"/>
            <a:ext cx="347760" cy="328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AE8-A172-404C-9D5C-8ACD97A8C96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iver of Exit Loan Counseling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s include web-based, in-person, and telephone counseling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of borrowers continue to receive in-person couns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an impediment to grad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s averaged annual savings of almost $8,000 (9 institutions repor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eduction of 1.3 workhours per borrower (10 institutions repor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E56-E729-498D-8EAB-9FFD6F5C6E8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iver of Exit Loan Counseling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R     for students in estimated final term in spring 2002 at institutions participating in this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M     for students at institutions participating in this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14640" y="2666880"/>
            <a:ext cx="347400" cy="3286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4248000"/>
            <a:ext cx="347400" cy="3286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4BB-8F3F-4856-80CC-03199952EBE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ward of Title IV Aid to Students Not Passing an ATB Exam, but Successfully Completing Six Credit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lf-Contained Experiment Within a Consortium of California Community Colle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incentive for students to continue thei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ot passing ATB, but successfully completing at least six hours, are usually non-native English spe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639-6218-47CB-B0CD-5D8FB040A2C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ward of Title IV Aid to Students Not Passing an ATB Exam, but Successfully Completing Six Credit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1981080"/>
          <a:ext cx="8312040" cy="4038840"/>
        </p:xfrm>
        <a:graphic>
          <a:graphicData uri="http://schemas.openxmlformats.org/drawingml/2006/table">
            <a:tbl>
              <a:tblPr/>
              <a:tblGrid>
                <a:gridCol w="2819520"/>
                <a:gridCol w="1371600"/>
                <a:gridCol w="1447560"/>
                <a:gridCol w="1530360"/>
                <a:gridCol w="1143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in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. Units Attemp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. Units Comple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g. 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rolled in degree or certificate applicable cla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,0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 recipients with HS diploma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taking A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failing A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assing A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 Elig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D5D-2A23-4B0E-8359-25388E14F32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  Com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02F-520D-48CF-8555-3FAB231BAE0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Want to Hear from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qulyn Banni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SA, US Department of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2) 377-43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kie.Bannister@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95680" y="1980720"/>
            <a:ext cx="4191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ke Wi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C Macro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01) 772-02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ke.J.Wilson@orcmacr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45C-205A-48EA-A9CC-A88E5CB6C6F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Initiative 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portunity to test new and innovative ways of administering Title IV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portunity to provide better services to students and improve stewardship of feder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portunity to provide the Department with data to support broader policy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F27-0F07-43CD-8D69-75438ADFAE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based information for the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48320" y="1981080"/>
          <a:ext cx="38098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CE0-2CBD-427B-BB09-E00DF49D17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 Participa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2 public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private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 community colle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r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1DE-23E0-4971-9573-113A61B4E7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ver of entrance loan couns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ver of exit loan couns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sion of loan fees in the calculation of cost of 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of Title IV funds to otherwise non-allowable institutional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of Title IV funds to prior term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ADE-BD3B-49C5-8CAF-836C49726B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xation of the requirement for multiple disbursement of single-term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sion of the thirty-day delay of disbursements for first-time, first-year borr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ward tolerance and the disbursement of loan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are and Contrast: The Experimental Sites  Data Dif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EFE-86A1-4437-95E0-C600CA38A2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2:22:56Z</dcterms:created>
  <dc:creator>PAUL HILL, JR</dc:creator>
  <dc:description/>
  <dc:language>en-US</dc:language>
  <cp:lastModifiedBy>PAUL HILL, JR</cp:lastModifiedBy>
  <dcterms:modified xsi:type="dcterms:W3CDTF">2003-03-17T14:46:35Z</dcterms:modified>
  <cp:revision>36</cp:revision>
  <dc:subject/>
  <dc:title>PowerPoint Presentation</dc:title>
</cp:coreProperties>
</file>