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357-27A1-44D3-A919-23BED777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803-45A3-4F94-8B94-28A2671F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A7B-546B-4FB5-9B4E-71D0202D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A8F-9EDB-4698-ADFA-CE0C202C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54F-7AB7-493C-B138-47C3D3EA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909-C3AC-4A81-A33E-B1E0D2C4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DB2-05AD-43DA-9737-B8170D2E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88B-BF0E-476B-91FD-D22A53C1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F58-6128-4E06-B8EA-28D6599E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DD3-6BBA-4253-9ED7-9D85E9D2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AD9-1564-43FE-9CDE-4E079AF6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8F3-7CDC-4889-994C-8B6A1D4A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1A57-E4C1-488A-B85B-03CAC4AFC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MJK5@psu.edu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ssues Being Rai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“blind” borrowing &amp; increased student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why students are obtaining alternative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hot economy and money” are  things of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increased default rates, particularly on Title IV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0A4-B604-4424-8EE7-EF8918DCBF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su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reluctance to take out PLUS loans and a shift in responsibility for financing postsecondar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s becoming “AT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private lende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loan 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2F7-CD34-4EDF-9589-0E1018A6EF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cy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Federal loan limits be increased during the upcoming HEA reauthor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Federal Government take a more active role with regard to alternative student lo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4B3-4059-4613-9FFE-5F255FFF3C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90d5d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67000" y="2055960"/>
            <a:ext cx="603864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ppreciate your feedback and comments.  I can be reac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(202) 861-82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(202) 861-93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cwegmann@ihep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5DF-6DE5-486E-80AB-6D79B8C317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ttle Bit about Penn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-02 Annu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nrollme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6,1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Aid Recipient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,166 (7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Aid Dolla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00,000,00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Locatio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rad/Graduate/Medical/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C5E-EE94-4BB6-96C0-3D4E812D38C5}" type="slidenum">
              <a:t>14</a:t>
            </a:fld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9140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Penn St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Addr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L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years ago, we did not want to mention to students the option of Alternative Lending as a stop g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we feel this is the only choi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D46-9166-43AA-A0BA-CBB62405553B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2002-0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ition increased between 4 to 5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and meals increased between 4 to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2-03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ition increased by 13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and meals increased 8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-04, more to com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D5E-9071-4DCD-970F-6B81E79C12C4}" type="slidenum">
              <a:t>16</a:t>
            </a:fld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level of defen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 PLUS o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-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648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8,822,30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-02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235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8,625,74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-03 (projected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921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0,782,184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B9E-68B8-4F37-B53E-CA463A8C6237}" type="slidenum">
              <a:t>17</a:t>
            </a:fld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Bad Credit on the R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PLUS Denials for Fami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-0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-0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4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-03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6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2DE-EC0E-4F74-99C8-26D9D6CC171B}" type="slidenum">
              <a:t>18</a:t>
            </a:fld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Lend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-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437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,949,169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-02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124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2,770,14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-03 (to-date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,595 borro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4,950 borro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8,219,729.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$35,000,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EC6-CAC9-4690-8492-CFD83B6C2C5B}" type="slidenum">
              <a:t>19</a:t>
            </a:fld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0332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ternative Loa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ling the G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08A-CFD8-4293-9038-83A3325C3B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facts about 2002-03 Alternative Loan borro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100% Undergradu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%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%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% Pennsylvania Res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income of $7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are below a 2.00 Cumulative G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8B5-8667-4CCC-A3ED-A00C91307CA1}" type="slidenum">
              <a:t>20</a:t>
            </a:fld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lu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your partn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 terms and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FFELP as leverage, if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a process that works for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e for your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777-CADE-48D3-8549-132E4106A9E4}" type="slidenum">
              <a:t>21</a:t>
            </a:fld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future h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Federal Stafford Borrowing lim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no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alternative loan borrow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kely, y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udents default on these lo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early to tell, bu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CE9-B47C-4B56-9A44-6E550963F254}" type="slidenum">
              <a:t>22</a:t>
            </a:fld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67000" y="2055960"/>
            <a:ext cx="603864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(814) 863-28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(814) 863-03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JK5@psu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A0A-0E41-48C1-91BC-66CE710E590B}" type="slidenum">
              <a:t>23</a:t>
            </a:fld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re Alternative Lo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loans, also known as private education loans, can be used to bridge the gap between the cost of attendance and the financial aid package offered by the institu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Loans are offered by private lenders and do not require federal forms (e.g., the FASF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A2A-6515-4231-99C9-A62C718F4F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istory of Alternative Lo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Loans have long been a part of the student financial aid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loans paved the way for much larger government sponsored-loans in the 1950s and 196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 alternative loans have increased in volume and d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B4B-76B0-4DB9-B7AF-F3E148A5D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The Interest In Alternative Lo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lternative loan volume at postsecondary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ing market of private lenders and alternative loa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ing costs of hig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coming HEA reauthorization and discussions of federal loan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C27-D1D9-4F73-9FC6-16FDDB817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an Volume Grow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95-96 to 2000-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824400" y="5546880"/>
            <a:ext cx="26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Colleg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8080" y="1828800"/>
          <a:ext cx="7874280" cy="3984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787428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84E-96ED-479E-B99F-B040DEB85B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lternative Loan Product Growth September 2001 to September 200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9440" y="5683320"/>
            <a:ext cx="30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Greentree Gaze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2960" y="1981080"/>
          <a:ext cx="731664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981080"/>
                    <a:ext cx="73166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AB4-79B8-4C5F-812B-54B638A90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lternative Loan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2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alternative loans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aracteristics of the students who receiv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 alternative loans play in college student financ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9051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ort seeks to answer the following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919-5011-46EE-BDED-74C15B7666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urces of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SAS 2000 (and previous years of NPSA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Greentree Gaz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based institutional data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ativ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focus groups with financial aid administ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rence calls within various postsecondary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ernative Loans: Filling the Gap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165-35CA-48B8-A912-114155ED9D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7T13:03:02Z</dcterms:modified>
  <cp:revision>15</cp:revision>
  <dc:subject/>
  <dc:title>PowerPoint Presentation</dc:title>
</cp:coreProperties>
</file>