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C1B-B010-4018-BD5A-CAA06797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CB2-D8B8-4B83-B185-330FB85C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6FA-F001-4847-8B37-785AA6E6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5AA-851E-4584-99D3-9013DAB5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767-F235-450E-BF99-4CEFCA0B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AB6-4A56-4324-A7FD-BBC59C8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12C-D02D-4D39-B52B-1B0994DD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219-F899-4366-8725-316C0D1F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393-DB9E-42A0-A75D-F1FDDCF0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501-6E51-42C0-8488-4EB4BD2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1CF-15A3-445D-AA05-EFD84CA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0E2-3252-422A-B0D1-6E144223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386D-E835-47F2-84B9-7BFADD5F2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dl.ed.gov/" TargetMode="External"/><Relationship Id="rId4" Type="http://schemas.openxmlformats.org/officeDocument/2006/relationships/hyperlink" Target="http://www.dl.ed.gov/" TargetMode="External"/><Relationship Id="rId5" Type="http://schemas.openxmlformats.org/officeDocument/2006/relationships/hyperlink" Target="http://lo-online.ed.gov/" TargetMode="External"/><Relationship Id="rId6" Type="http://schemas.openxmlformats.org/officeDocument/2006/relationships/hyperlink" Target="http://lo-online.ed.gov/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In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030211%20home%20page" descr=""/>
          <p:cNvPicPr/>
          <p:nvPr/>
        </p:nvPicPr>
        <p:blipFill>
          <a:blip r:embed="rId1"/>
          <a:stretch/>
        </p:blipFill>
        <p:spPr>
          <a:xfrm>
            <a:off x="203040" y="1295280"/>
            <a:ext cx="5816880" cy="4362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19710000">
            <a:off x="2514240" y="25142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030211%20LO%20Login" descr=""/>
          <p:cNvPicPr/>
          <p:nvPr/>
        </p:nvPicPr>
        <p:blipFill>
          <a:blip r:embed="rId2"/>
          <a:srcRect l="12001" t="0" r="0" b="32667"/>
          <a:stretch/>
        </p:blipFill>
        <p:spPr>
          <a:xfrm>
            <a:off x="762120" y="3276720"/>
            <a:ext cx="4647960" cy="2666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477120" y="1905120"/>
            <a:ext cx="220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can visit either the DLS site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dl.ed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g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the LO site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lo-online.ed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g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log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n access is controlled by the LO Web s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Sept. 2003, login will move to the COD Web s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28C-FB0A-44A2-A9CB-421E39A21D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In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30211%20Logged%20in%20home%20page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5384880" cy="4038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1447920"/>
            <a:ext cx="2209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you have logged in at LO, you will return to the Direct Loan Web site for schools. From here, you will select school reports to access the delinquency re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43C-AF66-42B1-82F5-EE8B73584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the Web Site you can see as little or as much as you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20919%20Del%20Rpt%20Menu" descr=""/>
          <p:cNvPicPr/>
          <p:nvPr/>
        </p:nvPicPr>
        <p:blipFill>
          <a:blip r:embed="rId1"/>
          <a:srcRect l="10159" t="14407" r="9476" b="37087"/>
          <a:stretch/>
        </p:blipFill>
        <p:spPr>
          <a:xfrm>
            <a:off x="743040" y="2219400"/>
            <a:ext cx="8034120" cy="34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6D6-B297-4900-9EEA-00DF53769D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A is f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ch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ee actual web-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P Sch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ee concepts and tools to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enders and servic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6B7-A644-4858-AF97-7FEA85FD2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3040" y="1506600"/>
            <a:ext cx="81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ee the delinquency status of your student borrow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00600" y="5389560"/>
            <a:ext cx="341280" cy="325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26668" r="4001" b="18667"/>
          <a:stretch/>
        </p:blipFill>
        <p:spPr>
          <a:xfrm>
            <a:off x="784080" y="2260440"/>
            <a:ext cx="7247160" cy="31305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3505320" y="5284800"/>
            <a:ext cx="1279440" cy="813600"/>
            <a:chOff x="3505320" y="5284800"/>
            <a:chExt cx="1279440" cy="813600"/>
          </a:xfrm>
        </p:grpSpPr>
        <p:sp>
          <p:nvSpPr>
            <p:cNvPr id="90" name=""/>
            <p:cNvSpPr/>
            <p:nvPr/>
          </p:nvSpPr>
          <p:spPr>
            <a:xfrm>
              <a:off x="3505320" y="5284800"/>
              <a:ext cx="1279440" cy="740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17640" y="5334120"/>
              <a:ext cx="105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al Number of accounts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84E-7AF7-4082-9213-64B9BD41A3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4001" t="24671" r="1998" b="13999"/>
          <a:stretch/>
        </p:blipFill>
        <p:spPr>
          <a:xfrm>
            <a:off x="1219320" y="2209680"/>
            <a:ext cx="716256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Detai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23960" y="1371600"/>
            <a:ext cx="6059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elect to see detail of all borrowers in the 271-360 days delinquent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477120" y="1905120"/>
            <a:ext cx="1279440" cy="842040"/>
            <a:chOff x="6477120" y="1905120"/>
            <a:chExt cx="1279440" cy="842040"/>
          </a:xfrm>
        </p:grpSpPr>
        <p:sp>
          <p:nvSpPr>
            <p:cNvPr id="96" name=""/>
            <p:cNvSpPr/>
            <p:nvPr/>
          </p:nvSpPr>
          <p:spPr>
            <a:xfrm>
              <a:off x="6477120" y="1905120"/>
              <a:ext cx="1279440" cy="7153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89440" y="1952640"/>
              <a:ext cx="10540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l Year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9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rrow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7543800" y="2438280"/>
            <a:ext cx="30492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2438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A6C-20EC-4371-A165-C5D8C0BD89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hort Year Delin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3240" y="1295280"/>
            <a:ext cx="74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elect to see severely delinquent borrowers for a selected cohort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0918%20Del%20Rpt%20Choose%20Cohort%20Yr" descr=""/>
          <p:cNvPicPr/>
          <p:nvPr/>
        </p:nvPicPr>
        <p:blipFill>
          <a:blip r:embed="rId1"/>
          <a:srcRect l="0" t="12753" r="12954" b="14919"/>
          <a:stretch/>
        </p:blipFill>
        <p:spPr>
          <a:xfrm>
            <a:off x="1036800" y="2185920"/>
            <a:ext cx="7142040" cy="38070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07880" y="2989440"/>
            <a:ext cx="1027080" cy="620280"/>
            <a:chOff x="407880" y="2989440"/>
            <a:chExt cx="1027080" cy="620280"/>
          </a:xfrm>
        </p:grpSpPr>
        <p:sp>
          <p:nvSpPr>
            <p:cNvPr id="104" name=""/>
            <p:cNvSpPr/>
            <p:nvPr/>
          </p:nvSpPr>
          <p:spPr>
            <a:xfrm>
              <a:off x="407880" y="2989440"/>
              <a:ext cx="1027080" cy="620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680" y="3030840"/>
              <a:ext cx="84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ea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35080" y="3597120"/>
            <a:ext cx="295200" cy="230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E38-6844-4F4F-9B67-61FB86B0F4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3000" t="24671" r="1998" b="11334"/>
          <a:stretch/>
        </p:blipFill>
        <p:spPr>
          <a:xfrm>
            <a:off x="1066680" y="2209680"/>
            <a:ext cx="723924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2 Cohort Year Delinquency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21000" y="1584360"/>
            <a:ext cx="42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work as little or as much as you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48000" y="2828880"/>
            <a:ext cx="9144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90720" y="1447920"/>
            <a:ext cx="1371240" cy="595080"/>
            <a:chOff x="990720" y="1447920"/>
            <a:chExt cx="1371240" cy="595080"/>
          </a:xfrm>
        </p:grpSpPr>
        <p:sp>
          <p:nvSpPr>
            <p:cNvPr id="112" name=""/>
            <p:cNvSpPr/>
            <p:nvPr/>
          </p:nvSpPr>
          <p:spPr>
            <a:xfrm>
              <a:off x="990720" y="1447920"/>
              <a:ext cx="1371240" cy="595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1320" y="148752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71-3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828800" y="2057400"/>
            <a:ext cx="76212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67480" y="1447920"/>
            <a:ext cx="1181160" cy="808560"/>
            <a:chOff x="7467480" y="1447920"/>
            <a:chExt cx="1181160" cy="808560"/>
          </a:xfrm>
        </p:grpSpPr>
        <p:sp>
          <p:nvSpPr>
            <p:cNvPr id="116" name=""/>
            <p:cNvSpPr/>
            <p:nvPr/>
          </p:nvSpPr>
          <p:spPr>
            <a:xfrm>
              <a:off x="7467480" y="1447920"/>
              <a:ext cx="1181160" cy="6969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72960" y="1492200"/>
              <a:ext cx="97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al Number of accounts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7924680" y="1981080"/>
            <a:ext cx="60984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DDE-835D-4988-862D-BCD29E3BDF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s can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the Servicing Center in finding and counseling severely delinquent borro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have op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borrower and coun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borrower and transfer to 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to the borrower makes all the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78A-D645-4964-98F5-8F3A8F361D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Web Site gives you the flexibility to identify the borrower population you want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dl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Services is your point of contact to provide assistance to the borrowers’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888-877-76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D71-3B95-4607-9C4F-15CA043FAF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803320"/>
            <a:ext cx="80773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5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Late Stage Delinquency Assistance (LSD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0DF-5164-48F5-9F0D-833C20F59C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Services offers assistance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you with scripts on how to counsel the borr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ssist you while on a call with a delinquent borr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nsure the borrower is assisted after you conta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CCD-02A9-4E4E-AB43-3F2AD77618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437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I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effort, maximum resul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elps the Borrower/Stud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elps the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can identify &amp; focus on the most severe delinquen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tools to identify the borrowers you are able to”rescu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 Loan Servicing Center is available to assi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chool Services: 1-888-877-765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F 8:00 a.m. - 8:30 p.m.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an Counseling: 1-800-848-0981,  available for “off hours”,               M-F 8:30 p.m. - 10:00 p.m. &amp;  Sat. 8:00 a.m. - 5:30 p.m. 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jor investment in time, staff or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DA really work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3DE-EC9E-4561-8199-F4B2A6C90E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8336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mail to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py of the draft LSDA User Guide for Direct Loa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which (using your School Cohort Default Rate History Report) will assis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your defaulting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atterns of default at your institution which is the first step in creating a default pre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493-6E71-4BCA-A907-767F0A43E0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3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ne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your current pre-claims or delinquency report broken down by delinquency ‘bucke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your ‘late stage borrower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out a cooperative arrangement with your lender or servic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contact information (How they will support your effor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phone calls with borrowers using best servicer or school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best time to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borrower to make appropriate arrangements with your serv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that you are not a coll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are simply trying to help borrowers avoid defa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26C-CF29-4D7C-AFA7-53DCC30977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DA Software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200" y="2130120"/>
            <a:ext cx="74883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our PC Lab for a demonstration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software tool to effectively man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delinquent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eviewing your delinquency repor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B41-1BD2-44C0-8E3B-E97ABD90C0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2819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F63-02D3-4E1E-A44C-22F94C100E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0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 LeBor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.Leborys@ed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Pi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.Pierson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l F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l.Flores@acs-in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B2D-8098-4578-884B-2A5150A5C4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nquency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chools Can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ols Can Make it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029200"/>
            <a:ext cx="5181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 LeBorys and John Pi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570-32E0-4C30-AF13-D192B8170E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04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icial Coho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23920"/>
          <a:ext cx="777240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3920"/>
                    <a:ext cx="777240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E96-5465-405C-8684-2922BBD414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up of Cohort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504800"/>
          <a:ext cx="86868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04800"/>
                    <a:ext cx="86868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A7B-84D9-4FFE-9302-00E88BBA6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6068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rower Delinquency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19200" y="1508040"/>
          <a:ext cx="7991280" cy="45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508040"/>
                    <a:ext cx="79912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E36-20A3-4318-B7CF-A32FFCD1C6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er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% do not get the advantage of their full 6 month grace as the result of late enrollment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% have withdrawn from school and did not completed thei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% have had bad telephone number at the time of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% have not been successfully contacted by telephone during the 12 months of collection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2200" y="559908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compiled as of 12/31/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808-88B5-4E1D-8B80-C70EE1F47A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71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Distribution of Potential 2002 Defau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982880"/>
          <a:ext cx="777240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2880"/>
                    <a:ext cx="777240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1C5-FBEC-43CE-B2A2-1D4B318688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Can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36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rrower via the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Student and contact Servicer for three way calling to resolve the delin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have additional tools to locate Borrowers, i.e. Alumni Association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r will ensure Student is provide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script available to help provide a guide on how to counsel the Borrower/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708-8F66-4FFC-AB76-05B5CBF5C3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2T18:43:19Z</dcterms:modified>
  <cp:revision>32</cp:revision>
  <dc:subject/>
  <dc:title>PowerPoint Presentation</dc:title>
</cp:coreProperties>
</file>