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22F3-37AC-4399-BC36-0AA5E4F83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556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40F8-7A18-4EFB-A584-14DEA82B7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32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4BCA-DEF8-4A5C-8875-9FD805579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743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31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55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743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31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E583-D771-4B64-9830-A94E4D3FD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74284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5869-9702-4B3B-85F9-7C6B92D96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2732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556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2732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743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9316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555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743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9316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417B-524C-46CB-853C-9EB02F0B2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ECC8-6DF5-48F1-A891-64381759D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5C2B-6288-4B85-988D-AD16A675B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4284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0BA3-C0F7-4D96-A096-0441643D1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FF69-4FA2-474C-B9CB-296743FFC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32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4AF8-0044-46F8-90FA-74FE5CEB3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32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556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1961-32C0-48C9-B1B2-B9F66D786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52a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852a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1504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D3A9-740F-418F-B9C2-B8584C01B6C2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rge%20Conference%20logo" descr=""/>
          <p:cNvPicPr/>
          <p:nvPr/>
        </p:nvPicPr>
        <p:blipFill>
          <a:blip r:embed="rId2"/>
          <a:stretch/>
        </p:blipFill>
        <p:spPr>
          <a:xfrm>
            <a:off x="457200" y="136440"/>
            <a:ext cx="228600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76320" y="0"/>
          <a:ext cx="30456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0"/>
                    <a:ext cx="304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bar1" descr=""/>
          <p:cNvPicPr/>
          <p:nvPr/>
        </p:nvPicPr>
        <p:blipFill>
          <a:blip r:embed="rId5"/>
          <a:stretch/>
        </p:blipFill>
        <p:spPr>
          <a:xfrm>
            <a:off x="2819520" y="76320"/>
            <a:ext cx="632448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bar1" descr=""/>
          <p:cNvPicPr/>
          <p:nvPr/>
        </p:nvPicPr>
        <p:blipFill>
          <a:blip r:embed="rId6"/>
          <a:stretch/>
        </p:blipFill>
        <p:spPr>
          <a:xfrm>
            <a:off x="304920" y="6629400"/>
            <a:ext cx="632448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edsealcolor" descr=""/>
          <p:cNvPicPr/>
          <p:nvPr/>
        </p:nvPicPr>
        <p:blipFill>
          <a:blip r:embed="rId7"/>
          <a:srcRect l="14704" t="23741" r="14710" b="20706"/>
          <a:stretch/>
        </p:blipFill>
        <p:spPr>
          <a:xfrm>
            <a:off x="6705720" y="571500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3168720"/>
            <a:ext cx="9144000" cy="641160"/>
            <a:chOff x="0" y="3168720"/>
            <a:chExt cx="9144000" cy="641160"/>
          </a:xfrm>
        </p:grpSpPr>
        <p:sp>
          <p:nvSpPr>
            <p:cNvPr id="46" name=""/>
            <p:cNvSpPr/>
            <p:nvPr/>
          </p:nvSpPr>
          <p:spPr>
            <a:xfrm>
              <a:off x="0" y="3168720"/>
              <a:ext cx="9144000" cy="641160"/>
            </a:xfrm>
            <a:prstGeom prst="rect">
              <a:avLst/>
            </a:prstGeom>
            <a:solidFill>
              <a:srgbClr val="85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168720"/>
              <a:ext cx="9144000" cy="641160"/>
              <a:chOff x="0" y="3168720"/>
              <a:chExt cx="9144000" cy="64116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3168720"/>
                <a:ext cx="9144000" cy="641160"/>
              </a:xfrm>
              <a:prstGeom prst="rect">
                <a:avLst/>
              </a:prstGeom>
              <a:solidFill>
                <a:srgbClr val="85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168720"/>
                <a:ext cx="9144000" cy="641160"/>
              </a:xfrm>
              <a:prstGeom prst="rect">
                <a:avLst/>
              </a:prstGeom>
              <a:solidFill>
                <a:srgbClr val="852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home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8580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Large%20Conference%20logo" descr=""/>
          <p:cNvPicPr/>
          <p:nvPr/>
        </p:nvPicPr>
        <p:blipFill>
          <a:blip r:embed="rId3"/>
          <a:srcRect l="2965" t="0" r="3704" b="0"/>
          <a:stretch/>
        </p:blipFill>
        <p:spPr>
          <a:xfrm>
            <a:off x="1523880" y="76320"/>
            <a:ext cx="6172200" cy="29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76320" y="0"/>
          <a:ext cx="30456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0"/>
                    <a:ext cx="304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department%20seal" descr=""/>
          <p:cNvPicPr/>
          <p:nvPr/>
        </p:nvPicPr>
        <p:blipFill>
          <a:blip r:embed="rId6"/>
          <a:stretch/>
        </p:blipFill>
        <p:spPr>
          <a:xfrm>
            <a:off x="3733920" y="4419720"/>
            <a:ext cx="1720800" cy="185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52a5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133720"/>
            <a:ext cx="7467480" cy="308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er may use same MPN if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chool or guarantor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er must sign new MPN if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lender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er or school can requir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w M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A06C-6554-4EA4-9C3C-B41475F6F2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1371600"/>
            <a:ext cx="533376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743200"/>
            <a:ext cx="7467480" cy="2418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er must sign new MPN for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each dependent for whom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w MPN if student move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etween FFELP and DL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3335-C604-4C69-8F89-5E5025EFE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2438280"/>
            <a:ext cx="7848720" cy="2424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rent may not be aware of nee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complete a separate MPN i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udent switches attendanc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ween FFELP and Direct Lo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42DC-2025-4B98-A3F0-1211F6AB2D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533376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28800"/>
            <a:ext cx="7467480" cy="3949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f borrower uses endorser, not eligible for multi-loan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For each loan requested during period of adverse cred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orrower must sign a new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romissory note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33cc33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endorser must sign new endorser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adden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7DE6-BB2D-4BA6-BC0F-217371502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33412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981080"/>
            <a:ext cx="7467480" cy="3400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PN is revoked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orrower requests rev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2 months after borrower signs not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f no initial disbursement has been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m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 years from borrower’s signatu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date on M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98D5-6F90-450C-8575-F341D214F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1295280"/>
            <a:ext cx="525780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School Eligibility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666880"/>
            <a:ext cx="7467840" cy="2418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ask Force proposed that all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chools may use multi-year feature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unless ED excludes the 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epartment has not agreed to this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roposal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A6BF-C551-492D-B574-4D413358D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55200" y="2050560"/>
            <a:ext cx="80773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PLUS Lo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Applicatio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MPN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1408-76C1-4F48-8A01-CC9B484077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Promissory Note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86000"/>
            <a:ext cx="8001000" cy="2727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99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nformation moved from checkboxes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to certification s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default &amp; grant over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EFT autho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deferment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11D4-BE57-423B-9B59-A67548470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Promissory Note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8305920" cy="2313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d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orrower e-mail address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e-mail address for reference (opt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elationship to borrower fo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2553-2DFD-4565-B2BF-790E240F89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Promissory Note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8305920" cy="2930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Dele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loan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equested loan am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state of legal res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student signatur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4E86-23A1-4DEA-BF08-13CADA67D3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Sessions S107 &amp; S107R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819520"/>
            <a:ext cx="8381880" cy="1582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PLUS MP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(It’s really gonna happen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8CD2-3F16-43E4-A78E-8E59ED16A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2286000"/>
            <a:ext cx="8077320" cy="2453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cc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Borrower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Decline the multi-year feature of th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ancel authorization for subsequent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loans to be made (writte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EAE4-BA63-446E-8DEC-D39024535E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533376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School Certification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981080"/>
            <a:ext cx="7467840" cy="3754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irrors Stafford School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er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Removed from application to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eparat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ncludes parent and student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ncludes requested loan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9341-FBDC-444E-B1D3-DCEA2C2DC4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440" y="129528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School Certification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438280"/>
            <a:ext cx="7467480" cy="2832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chool or lender may complete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parent and student information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ection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chool may send School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Certification for parent and student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o complete information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51EA-29A4-4FB9-B9AB-D03E415291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55200" y="2050560"/>
            <a:ext cx="80773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PLUS Endor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Addend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B72B-BADD-4AE4-BC36-0E3909C1A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Endorser Addendum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590920"/>
            <a:ext cx="8305920" cy="2986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Major addition at the top of the new form is 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Notice to Endorser” paragraph indicat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that by signing this form the endors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agrees to repay the loan if the borrower fai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to do s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FC88-CC88-4501-BD55-B61943C946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61722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Endorser Addendum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286000"/>
            <a:ext cx="8305920" cy="267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99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Ad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endorser e-mail address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reference e-mail address (opt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relationship to endorser for each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C36C-F5E1-4E12-9442-5D9AA377F3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533376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Confirmation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828800"/>
            <a:ext cx="7467480" cy="3754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ask Force pro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only active con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ethod and timing determined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by school or l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Active confirmation means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borrower takes action to confirm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loan each year for each 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1915-1249-4F84-BBE2-38439A926F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1066680"/>
            <a:ext cx="533376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Outstanding Issue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209680"/>
            <a:ext cx="7467480" cy="2926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hase-in period (FFEL 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ay use </a:t>
            </a:r>
            <a:r>
              <a:rPr b="1" i="1" lang="en-US" sz="3200" spc="-1" strike="noStrike">
                <a:solidFill>
                  <a:srgbClr val="ff9933"/>
                </a:solidFill>
                <a:latin typeface="Arial"/>
              </a:rPr>
              <a:t>vs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. Mus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tafford MPN – 12 months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hase-in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6745-6939-45AD-9AA4-BC6272CBC2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533412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Outstanding Issue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590920"/>
            <a:ext cx="7467480" cy="2004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lectronic Signa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guidance provided by ED in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June 2001 for Stafford MPN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ap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32F-C9C1-4416-92F7-470FCD2405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533412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DL PLUS MPN Implementation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590920"/>
            <a:ext cx="7467480" cy="1590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03-04 program year software will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be released probably in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ill be new PLUS M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2508-4FAC-4A2B-AF16-FC99DCF094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905120"/>
            <a:ext cx="8076960" cy="2926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cc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eveloped by NCHELP Task Force in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onjunction with the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cc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Entering OMB clearance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5FB8-F17A-4450-84B1-09CC5F1E7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We appreciate your feedback and comments.  I can be reach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Pat Newco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FFELP Section Chi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Phone: 202-377-40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Fax:  202-275-45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E-mail:  Patricia.newcombe@ed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5CE9-A6E8-4C20-A393-66F85C7977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We appreciate your feedback and comments.  I can be reach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Jon U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Direct Loans Program Speci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Phone: 202-377-40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Fax:  202-275-45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E-mail:  Jon.Utz@ed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552A-0993-4928-8A7C-B7FAACAFD9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137160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To The Extent Possible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-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590920"/>
            <a:ext cx="7696080" cy="267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ake Process and forms consistent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with Stafford M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Use with existing processing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onsistent with Direct Loans PLU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456C-B893-4FBF-A3A2-B4B89F6D7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752480"/>
            <a:ext cx="8381880" cy="3086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upport future technologies and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nhancements, such as electronic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ay need to be revised when HEA is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eauthorized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E247-1831-4784-81BD-A1281C255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2133360"/>
            <a:ext cx="6324840" cy="1600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Documents on ED Web Sit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http://edicsweb.ed.gov/</a:t>
            </a:r>
            <a:endParaRPr b="1" i="1" lang="en-US" sz="44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87CA-B78B-4E4B-A1CD-067812EFF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1752480"/>
            <a:ext cx="7467480" cy="3754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Federal PLUS Loan Application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d Master 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Borrower’s Rights and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Responsibilities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PLUS Loan Information and School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er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33cc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Endorser Addend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B2F-6E4B-4B3C-A874-7ECCED1AB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1218960"/>
            <a:ext cx="5257800" cy="99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7467480" cy="267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6699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School certifies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6699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ender conducts credit check and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approves or denies loan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6699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If borrower has adverse credit,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ender may allow an endo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C17E-EC68-4CEB-BB6B-C8D38A5D02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33376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Application Process</a:t>
            </a:r>
            <a:endParaRPr b="1" i="1" lang="en-US" sz="40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590920"/>
            <a:ext cx="7467480" cy="2396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52a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Use one PLUS MPN for multi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- years (if school qualif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ff99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NOT MULTIPLE DEPEN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2D47-F5FE-44DE-9FCA-BCED120A64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Mattie M. Oesby</cp:lastModifiedBy>
  <cp:lastPrinted>2001-09-28T19:47:11Z</cp:lastPrinted>
  <dcterms:modified xsi:type="dcterms:W3CDTF">2002-08-05T16:23:23Z</dcterms:modified>
  <cp:revision>124</cp:revision>
  <dc:subject/>
  <dc:title>No Slide Title</dc:title>
</cp:coreProperties>
</file>